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1.png" ContentType="image/png"/>
  <Override PartName="/ppt/media/image6.png" ContentType="image/png"/>
  <Override PartName="/ppt/media/image13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1.gif" ContentType="image/gi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ff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c1c1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c1c1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6705720" cy="45972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Tahoma"/>
              </a:rPr>
              <a:t>L’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705720" y="634032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Verdana"/>
              </a:rPr>
              <a:t>Gaspard Beernaert</a:t>
            </a:r>
            <a:br>
              <a:rPr sz="1400"/>
            </a:br>
            <a:r>
              <a:rPr b="0" lang="fr-FR" sz="1400" spc="-1" strike="noStrike">
                <a:solidFill>
                  <a:srgbClr val="b2b2b2"/>
                </a:solidFill>
                <a:latin typeface="Verdana"/>
              </a:rPr>
              <a:t>gaspard@europ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clipseBannerPic" descr=""/>
          <p:cNvPicPr/>
          <p:nvPr/>
        </p:nvPicPr>
        <p:blipFill>
          <a:blip r:embed="rId3"/>
          <a:stretch/>
        </p:blipFill>
        <p:spPr>
          <a:xfrm>
            <a:off x="0" y="6172200"/>
            <a:ext cx="146052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www.borland.com/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www.redhat.com/" TargetMode="External"/><Relationship Id="rId5" Type="http://schemas.openxmlformats.org/officeDocument/2006/relationships/image" Target="../media/image6.png"/><Relationship Id="rId6" Type="http://schemas.openxmlformats.org/officeDocument/2006/relationships/hyperlink" Target="http://www.fsw.fujitsu.com/interstage" TargetMode="External"/><Relationship Id="rId7" Type="http://schemas.openxmlformats.org/officeDocument/2006/relationships/image" Target="../media/image7.png"/><Relationship Id="rId8" Type="http://schemas.openxmlformats.org/officeDocument/2006/relationships/hyperlink" Target="http://www.serena.com/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www.ibm.com/software/ad/adstudio/" TargetMode="External"/><Relationship Id="rId11" Type="http://schemas.openxmlformats.org/officeDocument/2006/relationships/image" Target="../media/image9.png"/><Relationship Id="rId12" Type="http://schemas.openxmlformats.org/officeDocument/2006/relationships/hyperlink" Target="http://www.sybase.com/" TargetMode="External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jpe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image" Target="../media/image21.jpeg"/><Relationship Id="rId2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26669" descr=""/>
          <p:cNvPicPr/>
          <p:nvPr/>
        </p:nvPicPr>
        <p:blipFill>
          <a:blip r:embed="rId2"/>
          <a:stretch/>
        </p:blipFill>
        <p:spPr>
          <a:xfrm>
            <a:off x="1905120" y="2666880"/>
            <a:ext cx="5349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Tahoma"/>
              </a:rPr>
              <a:t>Eclipse</a:t>
            </a:r>
            <a:r>
              <a:rPr b="1" lang="en-US" sz="3200" spc="-1" strike="noStrike">
                <a:solidFill>
                  <a:srgbClr val="66ff66"/>
                </a:solidFill>
                <a:latin typeface="Tahoma"/>
                <a:ea typeface="Arial"/>
              </a:rPr>
              <a:t> en</a:t>
            </a:r>
            <a:r>
              <a:rPr b="1" lang="en-US" sz="3200" spc="-1" strike="noStrike">
                <a:solidFill>
                  <a:srgbClr val="66ff66"/>
                </a:solidFill>
                <a:latin typeface="Tahoma"/>
              </a:rPr>
              <a:t> Open Source</a:t>
            </a:r>
            <a:endParaRPr b="1" lang="en-US" sz="3200" spc="-1" strike="noStrike">
              <a:solidFill>
                <a:srgbClr val="66ff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Open Source depuis le 7 novembre 2001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CPL (common public license)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Développement OS signifie communication intens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Communauté de développeurs (eclipse.org)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listes de mailing lists, groupe de news, bugzilla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ff66"/>
                </a:solidFill>
                <a:latin typeface="Tahoma"/>
              </a:rPr>
              <a:t>eclipse.org : une méritocratie</a:t>
            </a:r>
            <a:endParaRPr b="1" lang="en-US" sz="3200" spc="-1" strike="noStrike">
              <a:solidFill>
                <a:srgbClr val="66ff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eclipse.org cimente une communauté qui contribu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conseil de délégués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définissent les projets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nomment les chefs de projets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examinent les projets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chefs de projets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gèrent le projet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établissent les règles de conduit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Chacun peut faire avancer Eclips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groupes de discussio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design, code, documentatio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Responsabilité =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1c1c1c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(contribution)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Sélection naturelle  darwinienn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5334120" y="1981080"/>
            <a:ext cx="380988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linux-tux-xmas" descr=""/>
          <p:cNvPicPr/>
          <p:nvPr/>
        </p:nvPicPr>
        <p:blipFill>
          <a:blip r:embed="rId1"/>
          <a:stretch/>
        </p:blipFill>
        <p:spPr>
          <a:xfrm>
            <a:off x="0" y="457200"/>
            <a:ext cx="7162920" cy="5729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715000" y="5410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? Des Questions 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Tahoma"/>
              </a:rPr>
              <a:t>Eclipse</a:t>
            </a:r>
            <a:endParaRPr b="1" lang="en-US" sz="3200" spc="-1" strike="noStrike">
              <a:solidFill>
                <a:srgbClr val="66ff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Une plateforme universelle </a:t>
            </a:r>
            <a:br>
              <a:rPr sz="2000"/>
            </a:b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pour outils intégrés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pic>
        <p:nvPicPr>
          <p:cNvPr id="46" name="borlandlogo" descr="Borlan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19840" y="3225960"/>
            <a:ext cx="1127160" cy="533160"/>
          </a:xfrm>
          <a:prstGeom prst="rect">
            <a:avLst/>
          </a:prstGeom>
          <a:ln w="0">
            <a:noFill/>
          </a:ln>
        </p:spPr>
      </p:pic>
      <p:pic>
        <p:nvPicPr>
          <p:cNvPr id="47" name="redhatlogo" descr="RedHa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90840" y="4800600"/>
            <a:ext cx="1219320" cy="452520"/>
          </a:xfrm>
          <a:prstGeom prst="rect">
            <a:avLst/>
          </a:prstGeom>
          <a:ln w="0">
            <a:noFill/>
          </a:ln>
        </p:spPr>
      </p:pic>
      <p:pic>
        <p:nvPicPr>
          <p:cNvPr id="48" name="head-fujitsu" descr="Fujitsu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168560" y="2489040"/>
            <a:ext cx="2863800" cy="319320"/>
          </a:xfrm>
          <a:prstGeom prst="rect">
            <a:avLst/>
          </a:prstGeom>
          <a:ln w="0">
            <a:noFill/>
          </a:ln>
        </p:spPr>
      </p:pic>
      <p:pic>
        <p:nvPicPr>
          <p:cNvPr id="49" name="serena" descr="Serena Software, Inc.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98800" y="3403440"/>
            <a:ext cx="2438640" cy="414360"/>
          </a:xfrm>
          <a:prstGeom prst="rect">
            <a:avLst/>
          </a:prstGeom>
          <a:ln w="0">
            <a:noFill/>
          </a:ln>
        </p:spPr>
      </p:pic>
      <p:pic>
        <p:nvPicPr>
          <p:cNvPr id="50" name="ibmlogo" descr="IB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87520" y="297180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51" name="sybaselogo" descr="Sybase, Inc.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600880" y="4991040"/>
            <a:ext cx="1447560" cy="452520"/>
          </a:xfrm>
          <a:prstGeom prst="rect">
            <a:avLst/>
          </a:prstGeom>
          <a:ln w="0">
            <a:noFill/>
          </a:ln>
        </p:spPr>
      </p:pic>
      <p:pic>
        <p:nvPicPr>
          <p:cNvPr id="52" name="merantlogo" descr=""/>
          <p:cNvPicPr/>
          <p:nvPr/>
        </p:nvPicPr>
        <p:blipFill>
          <a:blip r:embed="rId14"/>
          <a:stretch/>
        </p:blipFill>
        <p:spPr>
          <a:xfrm>
            <a:off x="5842080" y="4521240"/>
            <a:ext cx="1550880" cy="245880"/>
          </a:xfrm>
          <a:prstGeom prst="rect">
            <a:avLst/>
          </a:prstGeom>
          <a:ln w="0">
            <a:noFill/>
          </a:ln>
        </p:spPr>
      </p:pic>
      <p:pic>
        <p:nvPicPr>
          <p:cNvPr id="53" name="suselogo" descr="SuSE"/>
          <p:cNvPicPr/>
          <p:nvPr/>
        </p:nvPicPr>
        <p:blipFill>
          <a:blip r:embed="rId15"/>
          <a:stretch/>
        </p:blipFill>
        <p:spPr>
          <a:xfrm>
            <a:off x="1181160" y="3238560"/>
            <a:ext cx="685800" cy="490320"/>
          </a:xfrm>
          <a:prstGeom prst="rect">
            <a:avLst/>
          </a:prstGeom>
          <a:ln w="0">
            <a:noFill/>
          </a:ln>
        </p:spPr>
      </p:pic>
      <p:pic>
        <p:nvPicPr>
          <p:cNvPr id="54" name="qnxlogo" descr="QNX"/>
          <p:cNvPicPr/>
          <p:nvPr/>
        </p:nvPicPr>
        <p:blipFill>
          <a:blip r:embed="rId16"/>
          <a:stretch/>
        </p:blipFill>
        <p:spPr>
          <a:xfrm>
            <a:off x="6172200" y="2666880"/>
            <a:ext cx="1484280" cy="311400"/>
          </a:xfrm>
          <a:prstGeom prst="rect">
            <a:avLst/>
          </a:prstGeom>
          <a:ln w="0">
            <a:noFill/>
          </a:ln>
        </p:spPr>
      </p:pic>
      <p:pic>
        <p:nvPicPr>
          <p:cNvPr id="55" name="togethersoftlogo" descr="TogetherSoft"/>
          <p:cNvPicPr/>
          <p:nvPr/>
        </p:nvPicPr>
        <p:blipFill>
          <a:blip r:embed="rId17"/>
          <a:stretch/>
        </p:blipFill>
        <p:spPr>
          <a:xfrm>
            <a:off x="6235560" y="3860640"/>
            <a:ext cx="1454400" cy="482760"/>
          </a:xfrm>
          <a:prstGeom prst="rect">
            <a:avLst/>
          </a:prstGeom>
          <a:ln w="0">
            <a:noFill/>
          </a:ln>
        </p:spPr>
      </p:pic>
      <p:pic>
        <p:nvPicPr>
          <p:cNvPr id="56" name="rational_logo" descr=""/>
          <p:cNvPicPr/>
          <p:nvPr/>
        </p:nvPicPr>
        <p:blipFill>
          <a:blip r:embed="rId18"/>
          <a:stretch/>
        </p:blipFill>
        <p:spPr>
          <a:xfrm>
            <a:off x="3822840" y="2819520"/>
            <a:ext cx="1512720" cy="311040"/>
          </a:xfrm>
          <a:prstGeom prst="rect">
            <a:avLst/>
          </a:prstGeom>
          <a:ln w="0">
            <a:noFill/>
          </a:ln>
        </p:spPr>
      </p:pic>
      <p:pic>
        <p:nvPicPr>
          <p:cNvPr id="57" name="webgainlogo" descr="WebGain"/>
          <p:cNvPicPr/>
          <p:nvPr/>
        </p:nvPicPr>
        <p:blipFill>
          <a:blip r:embed="rId19"/>
          <a:stretch/>
        </p:blipFill>
        <p:spPr>
          <a:xfrm>
            <a:off x="2895480" y="3975120"/>
            <a:ext cx="1163880" cy="371520"/>
          </a:xfrm>
          <a:prstGeom prst="rect">
            <a:avLst/>
          </a:prstGeom>
          <a:ln w="0">
            <a:noFill/>
          </a:ln>
        </p:spPr>
      </p:pic>
      <p:pic>
        <p:nvPicPr>
          <p:cNvPr id="58" name="instant" descr=""/>
          <p:cNvPicPr/>
          <p:nvPr/>
        </p:nvPicPr>
        <p:blipFill>
          <a:blip r:embed="rId20"/>
          <a:stretch/>
        </p:blipFill>
        <p:spPr>
          <a:xfrm>
            <a:off x="1054080" y="4178160"/>
            <a:ext cx="1390680" cy="293760"/>
          </a:xfrm>
          <a:prstGeom prst="rect">
            <a:avLst/>
          </a:prstGeom>
          <a:ln w="0">
            <a:noFill/>
          </a:ln>
        </p:spPr>
      </p:pic>
      <p:pic>
        <p:nvPicPr>
          <p:cNvPr id="59" name="Hitinspr" descr="Hitachi Inspire The Next"/>
          <p:cNvPicPr/>
          <p:nvPr/>
        </p:nvPicPr>
        <p:blipFill>
          <a:blip r:embed="rId21"/>
          <a:stretch/>
        </p:blipFill>
        <p:spPr>
          <a:xfrm>
            <a:off x="1411200" y="5575320"/>
            <a:ext cx="1212840" cy="324000"/>
          </a:xfrm>
          <a:prstGeom prst="rect">
            <a:avLst/>
          </a:prstGeom>
          <a:ln w="0">
            <a:noFill/>
          </a:ln>
        </p:spPr>
      </p:pic>
      <p:pic>
        <p:nvPicPr>
          <p:cNvPr id="60" name="h_image1" descr="Scapa"/>
          <p:cNvPicPr/>
          <p:nvPr/>
        </p:nvPicPr>
        <p:blipFill>
          <a:blip r:embed="rId22"/>
          <a:stretch/>
        </p:blipFill>
        <p:spPr>
          <a:xfrm>
            <a:off x="4638600" y="3948120"/>
            <a:ext cx="60804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1752480" y="1143000"/>
            <a:ext cx="6823080" cy="4643280"/>
            <a:chOff x="1752480" y="1143000"/>
            <a:chExt cx="6823080" cy="4643280"/>
          </a:xfrm>
        </p:grpSpPr>
        <p:sp>
          <p:nvSpPr>
            <p:cNvPr id="62" name=""/>
            <p:cNvSpPr/>
            <p:nvPr/>
          </p:nvSpPr>
          <p:spPr>
            <a:xfrm>
              <a:off x="1752480" y="1143000"/>
              <a:ext cx="6823080" cy="46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2480" y="1143000"/>
              <a:ext cx="6823080" cy="360"/>
            </a:xfrm>
            <a:prstGeom prst="rect">
              <a:avLst/>
            </a:prstGeom>
            <a:solidFill>
              <a:srgbClr val="594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1_1" descr=""/>
          <p:cNvPicPr/>
          <p:nvPr/>
        </p:nvPicPr>
        <p:blipFill>
          <a:blip r:embed="rId23"/>
          <a:stretch/>
        </p:blipFill>
        <p:spPr>
          <a:xfrm>
            <a:off x="1251000" y="4794120"/>
            <a:ext cx="1684440" cy="530280"/>
          </a:xfrm>
          <a:prstGeom prst="rect">
            <a:avLst/>
          </a:prstGeom>
          <a:ln w="0">
            <a:noFill/>
          </a:ln>
        </p:spPr>
      </p:pic>
      <p:pic>
        <p:nvPicPr>
          <p:cNvPr id="65" name="logo2" descr=""/>
          <p:cNvPicPr/>
          <p:nvPr/>
        </p:nvPicPr>
        <p:blipFill>
          <a:blip r:embed="rId24"/>
          <a:stretch/>
        </p:blipFill>
        <p:spPr>
          <a:xfrm>
            <a:off x="3409920" y="5549760"/>
            <a:ext cx="2057400" cy="365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437960" y="6622920"/>
            <a:ext cx="15703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* Septemb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Tahoma"/>
              </a:rPr>
              <a:t>Dans la presse…</a:t>
            </a:r>
            <a:endParaRPr b="1" lang="en-US" sz="3200" spc="-1" strike="noStrike">
              <a:solidFill>
                <a:srgbClr val="66ff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imes New Roman"/>
              </a:rPr>
              <a:t>In […] its most significant announcement in 2001 IBM Corp yesterday donated a claimed $40 million of software […] to a new open source application development community called eclipse.org.” 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imes New Roman"/>
              </a:rPr>
              <a:t>Computergram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imes New Roman"/>
              </a:rPr>
              <a:t>Suddenly IBM is cool”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imes New Roman"/>
              </a:rPr>
              <a:t> – </a:t>
            </a:r>
            <a:r>
              <a:rPr b="0" lang="en-US" sz="1800" spc="-1" strike="noStrike">
                <a:solidFill>
                  <a:srgbClr val="1c1c1c"/>
                </a:solidFill>
                <a:latin typeface="Tahoma"/>
                <a:ea typeface="Times New Roman"/>
              </a:rPr>
              <a:t>slashdot post</a:t>
            </a: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ahoma"/>
            </a:endParaRPr>
          </a:p>
        </p:txBody>
      </p:sp>
      <p:pic>
        <p:nvPicPr>
          <p:cNvPr id="69" name="howto_banner" descr=""/>
          <p:cNvPicPr/>
          <p:nvPr/>
        </p:nvPicPr>
        <p:blipFill>
          <a:blip r:embed="rId3"/>
          <a:stretch/>
        </p:blipFill>
        <p:spPr>
          <a:xfrm>
            <a:off x="5689440" y="4724280"/>
            <a:ext cx="34545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ff66"/>
                </a:solidFill>
                <a:latin typeface="Tahoma"/>
              </a:rPr>
              <a:t>Eclipse, c’est quoi ?</a:t>
            </a:r>
            <a:endParaRPr b="1" lang="en-US" sz="3200" spc="-1" strike="noStrike">
              <a:solidFill>
                <a:srgbClr val="66ff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Un ensemble d’outils Java et une plateforme pour bâtir des outils et des applications</a:t>
            </a:r>
            <a:br>
              <a:rPr sz="2000"/>
            </a:b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Un environnement de développement Java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un environnement pour lui-même</a:t>
            </a:r>
            <a:br>
              <a:rPr sz="2000"/>
            </a:b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Un projet Open Sourc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outils permettant le développement OS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pic>
        <p:nvPicPr>
          <p:cNvPr id="72" name="linux.tux_02" descr=""/>
          <p:cNvPicPr/>
          <p:nvPr/>
        </p:nvPicPr>
        <p:blipFill>
          <a:blip r:embed="rId4"/>
          <a:stretch/>
        </p:blipFill>
        <p:spPr>
          <a:xfrm>
            <a:off x="6781680" y="3276720"/>
            <a:ext cx="122724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Tahoma"/>
              </a:rPr>
              <a:t>Motivation</a:t>
            </a:r>
            <a:endParaRPr b="1" lang="en-US" sz="3200" spc="-1" strike="noStrike">
              <a:solidFill>
                <a:srgbClr val="66ff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Augmenter la productivité des développeurs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infrastructure puissante et réutilisabl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intégration par constructio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interface utilisateur consistent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apprentissage des nouveaux outils plus aisé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Encourager l’innovation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moins de temps à réinventer la rou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extensible via des plug-ins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Garantir la fiabilité  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conception robuste pour l’industri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customizable via open sourc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dirigé par une communauté ouvert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Tahoma"/>
              </a:rPr>
              <a:t>Spécificités</a:t>
            </a:r>
            <a:endParaRPr b="1" lang="en-US" sz="3200" spc="-1" strike="noStrike">
              <a:solidFill>
                <a:srgbClr val="66ff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Une plateforme neutre du point de vue langag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les outils Web manipulent Java, HTML, XML, JSPs, langages de scripts, …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Implémenté depuis la base sur des APIs publiées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Mécanisme d’extension à base de plug-ins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Ouvert à différents repository (CVS in 1.0)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prédominance du système de fichiers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Attirer un maximum de fournisseurs d’outils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supporte les outils graphiques et ligne de commande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fonctionne sur un large ensemble de systèmes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Windows®, Linux™, ...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Exploiter la technologie Java™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productivité, portabilité, popularité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26920" y="1122480"/>
            <a:ext cx="5873760" cy="4932360"/>
          </a:xfrm>
          <a:prstGeom prst="roundRect">
            <a:avLst>
              <a:gd name="adj" fmla="val 6417"/>
            </a:avLst>
          </a:prstGeom>
          <a:solidFill>
            <a:srgbClr val="c0c0c0">
              <a:alpha val="50000"/>
            </a:srgbClr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54000" y="3695760"/>
            <a:ext cx="1482840" cy="1065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4c4c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8800" y="2058840"/>
            <a:ext cx="1508040" cy="106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4c4c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81" idx="1"/>
            <a:endCxn id="82" idx="2"/>
          </p:cNvCxnSpPr>
          <p:nvPr/>
        </p:nvCxnSpPr>
        <p:spPr>
          <a:xfrm rot="10800000">
            <a:off x="6579360" y="4403160"/>
            <a:ext cx="483480" cy="870480"/>
          </a:xfrm>
          <a:prstGeom prst="curvedConnector5">
            <a:avLst>
              <a:gd name="adj1" fmla="val 49850"/>
              <a:gd name="adj2" fmla="val 49979"/>
              <a:gd name="adj3" fmla="val 49850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4" idx="0"/>
            <a:endCxn id="81" idx="0"/>
          </p:cNvCxnSpPr>
          <p:nvPr/>
        </p:nvCxnSpPr>
        <p:spPr>
          <a:xfrm flipH="1" rot="16200000">
            <a:off x="7341120" y="4460760"/>
            <a:ext cx="668880" cy="20880"/>
          </a:xfrm>
          <a:prstGeom prst="curvedConnector5">
            <a:avLst>
              <a:gd name="adj1" fmla="val 50080"/>
              <a:gd name="adj2" fmla="val 49122"/>
              <a:gd name="adj3" fmla="val 50080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6" idx="2"/>
            <a:endCxn id="79" idx="3"/>
          </p:cNvCxnSpPr>
          <p:nvPr/>
        </p:nvCxnSpPr>
        <p:spPr>
          <a:xfrm rot="10800000">
            <a:off x="2436120" y="2588400"/>
            <a:ext cx="118080" cy="272160"/>
          </a:xfrm>
          <a:prstGeom prst="curvedConnector5">
            <a:avLst>
              <a:gd name="adj1" fmla="val 48623"/>
              <a:gd name="adj2" fmla="val 49933"/>
              <a:gd name="adj3" fmla="val 4862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88" idx="2"/>
            <a:endCxn id="78" idx="3"/>
          </p:cNvCxnSpPr>
          <p:nvPr/>
        </p:nvCxnSpPr>
        <p:spPr>
          <a:xfrm flipV="1" rot="10800000">
            <a:off x="2436120" y="3982680"/>
            <a:ext cx="118080" cy="246960"/>
          </a:xfrm>
          <a:prstGeom prst="curvedConnector5">
            <a:avLst>
              <a:gd name="adj1" fmla="val 48623"/>
              <a:gd name="adj2" fmla="val 49927"/>
              <a:gd name="adj3" fmla="val 4862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90" idx="1"/>
            <a:endCxn id="91" idx="2"/>
          </p:cNvCxnSpPr>
          <p:nvPr/>
        </p:nvCxnSpPr>
        <p:spPr>
          <a:xfrm rot="10800000">
            <a:off x="6579360" y="3293280"/>
            <a:ext cx="483480" cy="115200"/>
          </a:xfrm>
          <a:prstGeom prst="curvedConnector5">
            <a:avLst>
              <a:gd name="adj1" fmla="val 49850"/>
              <a:gd name="adj2" fmla="val 49843"/>
              <a:gd name="adj3" fmla="val 49850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93" idx="1"/>
            <a:endCxn id="94" idx="2"/>
          </p:cNvCxnSpPr>
          <p:nvPr/>
        </p:nvCxnSpPr>
        <p:spPr>
          <a:xfrm flipV="1" rot="10800000">
            <a:off x="6579360" y="1627560"/>
            <a:ext cx="483480" cy="554760"/>
          </a:xfrm>
          <a:prstGeom prst="curvedConnector5">
            <a:avLst>
              <a:gd name="adj1" fmla="val 49850"/>
              <a:gd name="adj2" fmla="val 50000"/>
              <a:gd name="adj3" fmla="val 4985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2798640" y="1384200"/>
            <a:ext cx="3540240" cy="4132440"/>
          </a:xfrm>
          <a:custGeom>
            <a:avLst/>
            <a:gdLst>
              <a:gd name="textAreaLeft" fmla="*/ 42120 w 3540240"/>
              <a:gd name="textAreaRight" fmla="*/ 3498120 w 3540240"/>
              <a:gd name="textAreaTop" fmla="*/ 42120 h 4132440"/>
              <a:gd name="textAreaBottom" fmla="*/ 4090320 h 4132440"/>
            </a:gdLst>
            <a:ahLst/>
            <a:rect l="textAreaLeft" t="textAreaTop" r="textAreaRight" b="textAreaBottom"/>
            <a:pathLst>
              <a:path w="21600" h="25213">
                <a:moveTo>
                  <a:pt x="880" y="0"/>
                </a:moveTo>
                <a:arcTo wR="880" hR="880" stAng="16200000" swAng="-5400000"/>
                <a:lnTo>
                  <a:pt x="0" y="24333"/>
                </a:lnTo>
                <a:arcTo wR="880" hR="880" stAng="10800000" swAng="-5400000"/>
                <a:lnTo>
                  <a:pt x="20720" y="25213"/>
                </a:lnTo>
                <a:arcTo wR="880" hR="880" stAng="5400000" swAng="-5400000"/>
                <a:lnTo>
                  <a:pt x="21600" y="880"/>
                </a:lnTo>
                <a:arcTo wR="880" hR="88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c4c4c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98640" y="5027760"/>
            <a:ext cx="3540240" cy="488880"/>
          </a:xfrm>
          <a:prstGeom prst="roundRect">
            <a:avLst>
              <a:gd name="adj" fmla="val 2272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tform Run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60800" y="3828960"/>
            <a:ext cx="1930320" cy="79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4c4c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22960" y="2006640"/>
            <a:ext cx="838080" cy="588960"/>
          </a:xfrm>
          <a:prstGeom prst="roundRect">
            <a:avLst>
              <a:gd name="adj" fmla="val 22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4c4c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22960" y="2997360"/>
            <a:ext cx="825480" cy="601560"/>
          </a:xfrm>
          <a:prstGeom prst="roundRect">
            <a:avLst>
              <a:gd name="adj" fmla="val 26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4c4c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60800" y="2006640"/>
            <a:ext cx="1930320" cy="1420920"/>
          </a:xfrm>
          <a:prstGeom prst="roundRect">
            <a:avLst>
              <a:gd name="adj" fmla="val 1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4c4c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13440" y="3816360"/>
            <a:ext cx="12276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ork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30600" y="1996920"/>
            <a:ext cx="5814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54640" y="3035160"/>
            <a:ext cx="674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8040" y="1996920"/>
            <a:ext cx="1270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orkbe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5200" y="2451240"/>
            <a:ext cx="1285920" cy="976320"/>
          </a:xfrm>
          <a:prstGeom prst="roundRect">
            <a:avLst>
              <a:gd name="adj" fmla="val 154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15720" y="2438280"/>
            <a:ext cx="6393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60800" y="2938320"/>
            <a:ext cx="1568520" cy="489240"/>
          </a:xfrm>
          <a:prstGeom prst="roundRect">
            <a:avLst>
              <a:gd name="adj" fmla="val 318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82480" y="2927520"/>
            <a:ext cx="5403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W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56000" y="2728800"/>
            <a:ext cx="241200" cy="265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6600" y="2727360"/>
            <a:ext cx="120600" cy="266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56000" y="3849840"/>
            <a:ext cx="241200" cy="268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76600" y="3849840"/>
            <a:ext cx="120600" cy="266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6338880" y="3161880"/>
            <a:ext cx="241200" cy="265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6338520" y="3164040"/>
            <a:ext cx="120600" cy="264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6338880" y="2050560"/>
            <a:ext cx="241200" cy="266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338520" y="2050920"/>
            <a:ext cx="120600" cy="26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6338880" y="4272120"/>
            <a:ext cx="241200" cy="266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338520" y="4273200"/>
            <a:ext cx="120600" cy="266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91880" y="5610240"/>
            <a:ext cx="17658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clipse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62840" y="4805280"/>
            <a:ext cx="1245960" cy="933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4c4c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62840" y="2940120"/>
            <a:ext cx="1245960" cy="933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4c4c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62840" y="1162080"/>
            <a:ext cx="1245960" cy="933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4c4c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5320" y="2031840"/>
            <a:ext cx="154296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Develop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JD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85400" y="4975200"/>
            <a:ext cx="692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i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51200" y="3070080"/>
            <a:ext cx="6440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ou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23400" y="1317600"/>
            <a:ext cx="9457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n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7544880" y="3871440"/>
            <a:ext cx="241560" cy="266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7544880" y="3873600"/>
            <a:ext cx="241560" cy="13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97200" y="3895560"/>
            <a:ext cx="81000" cy="44640"/>
          </a:xfrm>
          <a:prstGeom prst="rect">
            <a:avLst/>
          </a:prstGeom>
          <a:solidFill>
            <a:srgbClr val="ffe9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97200" y="4027320"/>
            <a:ext cx="81000" cy="46080"/>
          </a:xfrm>
          <a:prstGeom prst="rect">
            <a:avLst/>
          </a:prstGeom>
          <a:solidFill>
            <a:srgbClr val="ffe9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97200" y="2773440"/>
            <a:ext cx="81000" cy="42840"/>
          </a:xfrm>
          <a:prstGeom prst="rect">
            <a:avLst/>
          </a:prstGeom>
          <a:solidFill>
            <a:srgbClr val="ffe9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97200" y="2906640"/>
            <a:ext cx="81000" cy="44640"/>
          </a:xfrm>
          <a:prstGeom prst="rect">
            <a:avLst/>
          </a:prstGeom>
          <a:solidFill>
            <a:srgbClr val="ffe9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6257520" y="3340080"/>
            <a:ext cx="81000" cy="44640"/>
          </a:xfrm>
          <a:prstGeom prst="rect">
            <a:avLst/>
          </a:prstGeom>
          <a:solidFill>
            <a:srgbClr val="ffe9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6257520" y="3206520"/>
            <a:ext cx="81000" cy="42840"/>
          </a:xfrm>
          <a:prstGeom prst="rect">
            <a:avLst/>
          </a:prstGeom>
          <a:solidFill>
            <a:srgbClr val="ffe9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6257520" y="2228760"/>
            <a:ext cx="81000" cy="44640"/>
          </a:xfrm>
          <a:prstGeom prst="rect">
            <a:avLst/>
          </a:prstGeom>
          <a:solidFill>
            <a:srgbClr val="ffe9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6257520" y="2095200"/>
            <a:ext cx="81000" cy="44280"/>
          </a:xfrm>
          <a:prstGeom prst="rect">
            <a:avLst/>
          </a:prstGeom>
          <a:solidFill>
            <a:srgbClr val="ffe9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6257520" y="4449600"/>
            <a:ext cx="81000" cy="46080"/>
          </a:xfrm>
          <a:prstGeom prst="rect">
            <a:avLst/>
          </a:prstGeom>
          <a:solidFill>
            <a:srgbClr val="ffe9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6257520" y="4317840"/>
            <a:ext cx="81000" cy="44640"/>
          </a:xfrm>
          <a:prstGeom prst="rect">
            <a:avLst/>
          </a:prstGeom>
          <a:solidFill>
            <a:srgbClr val="ffe9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7707240" y="3784320"/>
            <a:ext cx="39600" cy="88920"/>
          </a:xfrm>
          <a:prstGeom prst="rect">
            <a:avLst/>
          </a:prstGeom>
          <a:solidFill>
            <a:srgbClr val="ffe9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7585200" y="3784320"/>
            <a:ext cx="41040" cy="88920"/>
          </a:xfrm>
          <a:prstGeom prst="rect">
            <a:avLst/>
          </a:prstGeom>
          <a:solidFill>
            <a:srgbClr val="ffe9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2882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Tahoma"/>
              </a:rPr>
              <a:t>Un système Full Plugin</a:t>
            </a:r>
            <a:endParaRPr b="1" lang="en-US" sz="3200" spc="-1" strike="noStrike">
              <a:solidFill>
                <a:srgbClr val="66ff66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930240" y="3736800"/>
            <a:ext cx="153036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Plug-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Develop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nviron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PD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9000" y="1441440"/>
            <a:ext cx="17535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clips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22960" y="3936960"/>
            <a:ext cx="812880" cy="601560"/>
          </a:xfrm>
          <a:prstGeom prst="roundRect">
            <a:avLst>
              <a:gd name="adj" fmla="val 26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4c4c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60040" y="3975120"/>
            <a:ext cx="773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b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8" idx="0"/>
            <a:endCxn id="78" idx="0"/>
          </p:cNvCxnSpPr>
          <p:nvPr/>
        </p:nvCxnSpPr>
        <p:spPr>
          <a:xfrm flipH="1" rot="16200000">
            <a:off x="1537200" y="3538080"/>
            <a:ext cx="313560" cy="2520"/>
          </a:xfrm>
          <a:prstGeom prst="curvedConnector5">
            <a:avLst>
              <a:gd name="adj1" fmla="val 50229"/>
              <a:gd name="adj2" fmla="val 50000"/>
              <a:gd name="adj3" fmla="val 5022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39" name=""/>
          <p:cNvSpPr/>
          <p:nvPr/>
        </p:nvSpPr>
        <p:spPr>
          <a:xfrm rot="10800000">
            <a:off x="1735200" y="3025440"/>
            <a:ext cx="39600" cy="88920"/>
          </a:xfrm>
          <a:prstGeom prst="rect">
            <a:avLst/>
          </a:prstGeom>
          <a:solidFill>
            <a:srgbClr val="ffe9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0800000">
            <a:off x="1612440" y="3025440"/>
            <a:ext cx="41400" cy="88920"/>
          </a:xfrm>
          <a:prstGeom prst="rect">
            <a:avLst/>
          </a:prstGeom>
          <a:solidFill>
            <a:srgbClr val="ffe9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1573200" y="3117600"/>
            <a:ext cx="241200" cy="266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0800000">
            <a:off x="1573200" y="3119040"/>
            <a:ext cx="241200" cy="133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Tahoma"/>
              </a:rPr>
              <a:t>Architecture</a:t>
            </a:r>
            <a:endParaRPr b="1" lang="en-US" sz="3200" spc="-1" strike="noStrike">
              <a:solidFill>
                <a:srgbClr val="66ff66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57560" y="5041800"/>
            <a:ext cx="6352560" cy="884160"/>
            <a:chOff x="2257560" y="5041800"/>
            <a:chExt cx="6352560" cy="884160"/>
          </a:xfrm>
        </p:grpSpPr>
        <p:grpSp>
          <p:nvGrpSpPr>
            <p:cNvPr id="144" name=""/>
            <p:cNvGrpSpPr/>
            <p:nvPr/>
          </p:nvGrpSpPr>
          <p:grpSpPr>
            <a:xfrm>
              <a:off x="4724280" y="5041800"/>
              <a:ext cx="3885840" cy="884160"/>
              <a:chOff x="4724280" y="5041800"/>
              <a:chExt cx="3885840" cy="884160"/>
            </a:xfrm>
          </p:grpSpPr>
          <p:sp>
            <p:nvSpPr>
              <p:cNvPr id="145" name=""/>
              <p:cNvSpPr/>
              <p:nvPr/>
            </p:nvSpPr>
            <p:spPr>
              <a:xfrm>
                <a:off x="4724280" y="5041800"/>
                <a:ext cx="3885840" cy="884160"/>
              </a:xfrm>
              <a:prstGeom prst="cube">
                <a:avLst>
                  <a:gd name="adj" fmla="val 25000"/>
                </a:avLst>
              </a:prstGeom>
              <a:solidFill>
                <a:srgbClr val="666699"/>
              </a:solidFill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0800" bIns="10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532840" y="5408640"/>
                <a:ext cx="1885680" cy="326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ctr" anchorCtr="1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Java V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2257560" y="5261040"/>
              <a:ext cx="192996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tandard Java2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Virtual Machin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203200" y="4229280"/>
            <a:ext cx="6407280" cy="914400"/>
            <a:chOff x="2203200" y="4229280"/>
            <a:chExt cx="6407280" cy="914400"/>
          </a:xfrm>
        </p:grpSpPr>
        <p:grpSp>
          <p:nvGrpSpPr>
            <p:cNvPr id="149" name=""/>
            <p:cNvGrpSpPr/>
            <p:nvPr/>
          </p:nvGrpSpPr>
          <p:grpSpPr>
            <a:xfrm>
              <a:off x="4711680" y="4229280"/>
              <a:ext cx="3898800" cy="914400"/>
              <a:chOff x="4711680" y="4229280"/>
              <a:chExt cx="3898800" cy="914400"/>
            </a:xfrm>
          </p:grpSpPr>
          <p:sp>
            <p:nvSpPr>
              <p:cNvPr id="150" name=""/>
              <p:cNvSpPr/>
              <p:nvPr/>
            </p:nvSpPr>
            <p:spPr>
              <a:xfrm>
                <a:off x="4711680" y="4229280"/>
                <a:ext cx="3898800" cy="914400"/>
              </a:xfrm>
              <a:prstGeom prst="cube">
                <a:avLst>
                  <a:gd name="adj" fmla="val 25000"/>
                </a:avLst>
              </a:prstGeom>
              <a:solidFill>
                <a:srgbClr val="33cccc"/>
              </a:solidFill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0800" bIns="10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522760" y="4611960"/>
                <a:ext cx="1803600" cy="32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ctr" anchorCtr="1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Platfo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203200" y="4651560"/>
              <a:ext cx="19209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clipse Plat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51040" y="3429000"/>
            <a:ext cx="7746480" cy="927000"/>
            <a:chOff x="851040" y="3429000"/>
            <a:chExt cx="7746480" cy="927000"/>
          </a:xfrm>
        </p:grpSpPr>
        <p:sp>
          <p:nvSpPr>
            <p:cNvPr id="154" name=""/>
            <p:cNvSpPr/>
            <p:nvPr/>
          </p:nvSpPr>
          <p:spPr>
            <a:xfrm>
              <a:off x="851040" y="3724200"/>
              <a:ext cx="27604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Java development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too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686480" y="3429000"/>
              <a:ext cx="3911040" cy="914400"/>
              <a:chOff x="4686480" y="3429000"/>
              <a:chExt cx="3911040" cy="914400"/>
            </a:xfrm>
          </p:grpSpPr>
          <p:sp>
            <p:nvSpPr>
              <p:cNvPr id="156" name=""/>
              <p:cNvSpPr/>
              <p:nvPr/>
            </p:nvSpPr>
            <p:spPr>
              <a:xfrm>
                <a:off x="4686480" y="3429000"/>
                <a:ext cx="3911040" cy="914400"/>
              </a:xfrm>
              <a:prstGeom prst="cube">
                <a:avLst>
                  <a:gd name="adj" fmla="val 25000"/>
                </a:avLst>
              </a:prstGeom>
              <a:solidFill>
                <a:srgbClr val="339966"/>
              </a:solidFill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0800" bIns="10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503320" y="3811680"/>
                <a:ext cx="1893240" cy="3268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ctr" anchorCtr="1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JD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1279080" y="2616120"/>
            <a:ext cx="7318080" cy="914400"/>
            <a:chOff x="1279080" y="2616120"/>
            <a:chExt cx="7318080" cy="914400"/>
          </a:xfrm>
        </p:grpSpPr>
        <p:grpSp>
          <p:nvGrpSpPr>
            <p:cNvPr id="159" name=""/>
            <p:cNvGrpSpPr/>
            <p:nvPr/>
          </p:nvGrpSpPr>
          <p:grpSpPr>
            <a:xfrm>
              <a:off x="4699800" y="2616120"/>
              <a:ext cx="3897360" cy="914400"/>
              <a:chOff x="4699800" y="2616120"/>
              <a:chExt cx="3897360" cy="914400"/>
            </a:xfrm>
          </p:grpSpPr>
          <p:sp>
            <p:nvSpPr>
              <p:cNvPr id="160" name=""/>
              <p:cNvSpPr/>
              <p:nvPr/>
            </p:nvSpPr>
            <p:spPr>
              <a:xfrm>
                <a:off x="4699800" y="2616120"/>
                <a:ext cx="3897360" cy="91440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0800" bIns="10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515560" y="2998800"/>
                <a:ext cx="1886400" cy="3268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ctr" anchorCtr="1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P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279080" y="2873160"/>
              <a:ext cx="24832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800" bIns="10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lug-in development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219320" y="1143000"/>
            <a:ext cx="72644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Plateforme universelle pour intégrer des outils de déelopp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Architexture ouverte et extensivble basée sur des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  <a:ea typeface="Arial"/>
              </a:rPr>
              <a:t> plug-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ff66"/>
                </a:solidFill>
                <a:latin typeface="Tahoma"/>
              </a:rPr>
              <a:t>Typical arrangement</a:t>
            </a:r>
            <a:endParaRPr b="1" lang="en-US" sz="3200" spc="-1" strike="noStrike">
              <a:solidFill>
                <a:srgbClr val="66ff66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1219320"/>
            <a:ext cx="3175200" cy="220968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8040" y="3695400"/>
            <a:ext cx="726408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Plug-in A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Declare une extension en point P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Declare l’interface I en lien avec with P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Plug-in B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Implemente l’interface I avec sa propre classe C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Utilise la classe C pour le point d’extension P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Plug-in A initialise C et appelle la méthode I</a:t>
            </a:r>
            <a:endParaRPr b="0" lang="en-US" sz="20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206360" y="1244520"/>
            <a:ext cx="3175200" cy="22100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63320" y="1247760"/>
            <a:ext cx="1070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plug-i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60680" y="1209600"/>
            <a:ext cx="10735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plug-in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11880" y="2755800"/>
            <a:ext cx="1104840" cy="559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lass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82960" y="2717640"/>
            <a:ext cx="1523880" cy="635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interface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0" idx="1"/>
            <a:endCxn id="171" idx="3"/>
          </p:cNvCxnSpPr>
          <p:nvPr/>
        </p:nvCxnSpPr>
        <p:spPr>
          <a:xfrm flipH="1">
            <a:off x="3625920" y="3034800"/>
            <a:ext cx="2667240" cy="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sm" type="arrow" w="sm"/>
          </a:ln>
        </p:spPr>
      </p:cxnSp>
      <p:sp>
        <p:nvSpPr>
          <p:cNvPr id="173" name=""/>
          <p:cNvSpPr/>
          <p:nvPr/>
        </p:nvSpPr>
        <p:spPr>
          <a:xfrm>
            <a:off x="1917720" y="1619280"/>
            <a:ext cx="1784160" cy="749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extension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poin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58080" y="1687680"/>
            <a:ext cx="166356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4" idx="2"/>
            <a:endCxn id="173" idx="6"/>
          </p:cNvCxnSpPr>
          <p:nvPr/>
        </p:nvCxnSpPr>
        <p:spPr>
          <a:xfrm flipH="1">
            <a:off x="3720240" y="1991880"/>
            <a:ext cx="231876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sm" type="arrow" w="sm"/>
          </a:ln>
        </p:spPr>
      </p:cxnSp>
      <p:sp>
        <p:nvSpPr>
          <p:cNvPr id="176" name=""/>
          <p:cNvSpPr/>
          <p:nvPr/>
        </p:nvSpPr>
        <p:spPr>
          <a:xfrm>
            <a:off x="4118760" y="1596960"/>
            <a:ext cx="1366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Verdana"/>
              </a:rPr>
              <a:t>con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93960" y="2349360"/>
            <a:ext cx="0" cy="387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38920" y="2317680"/>
            <a:ext cx="6480" cy="432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67" idx="3"/>
            <a:endCxn id="170" idx="2"/>
          </p:cNvCxnSpPr>
          <p:nvPr/>
        </p:nvCxnSpPr>
        <p:spPr>
          <a:xfrm>
            <a:off x="4400640" y="2349360"/>
            <a:ext cx="2464560" cy="984960"/>
          </a:xfrm>
          <a:prstGeom prst="bentConnector4">
            <a:avLst>
              <a:gd name="adj1" fmla="val 23184"/>
              <a:gd name="adj2" fmla="val 169981"/>
            </a:avLst>
          </a:prstGeom>
          <a:ln w="38160">
            <a:solidFill>
              <a:srgbClr val="ff0000"/>
            </a:solidFill>
            <a:miter/>
            <a:tailEnd len="sm" type="arrow" w="sm"/>
          </a:ln>
        </p:spPr>
      </p:cxnSp>
      <p:sp>
        <p:nvSpPr>
          <p:cNvPr id="180" name=""/>
          <p:cNvSpPr/>
          <p:nvPr/>
        </p:nvSpPr>
        <p:spPr>
          <a:xfrm>
            <a:off x="5073480" y="3616200"/>
            <a:ext cx="1662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Verdana"/>
              </a:rPr>
              <a:t>creates,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78080" y="2619360"/>
            <a:ext cx="1420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Verdana"/>
              </a:rPr>
              <a:t>imp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00:03:14Z</dcterms:created>
  <dc:creator>gaspard</dc:creator>
  <dc:description/>
  <dc:language>en-US</dc:language>
  <cp:lastModifiedBy>gaspard</cp:lastModifiedBy>
  <dcterms:modified xsi:type="dcterms:W3CDTF">2002-12-19T06:44:59Z</dcterms:modified>
  <cp:revision>5</cp:revision>
  <dc:subject/>
  <dc:title>Présentation PowerPoint</dc:title>
</cp:coreProperties>
</file>