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D44-EC6E-4436-807D-57B5896E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321-E351-45C6-8380-B3D0A00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D2E-00DE-4D14-A4F5-4D4AFD4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195-96FD-4A5E-B897-B355F9A3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69F-57DF-4A2B-BF01-6D9C892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E15-D701-46B7-A739-64CB5FAD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09A-4092-4B20-8A4D-569903F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70F-4CDA-40E2-95F7-13FF83EA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158-D538-4B16-9114-7A27214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E84-2A22-4C99-9A8E-CA133C3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B5F-294C-45E6-A472-7730AB0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403-6B1A-4E81-9C14-088323B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B8AB-AB59-4274-A7B0-FC2E979B6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PHP A GRANDE VITESSE</a:t>
            </a:r>
            <a:br>
              <a:rPr sz="4400"/>
            </a:b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aris, 28 novembr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657600"/>
            <a:ext cx="6400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6699"/>
                </a:solidFill>
                <a:latin typeface="Arial"/>
              </a:rPr>
              <a:t>Armel FAUVEAU</a:t>
            </a:r>
            <a:br>
              <a:rPr sz="2000"/>
            </a:br>
            <a:r>
              <a:rPr b="1" lang="fr-FR" sz="2000" spc="-1" strike="noStrike">
                <a:solidFill>
                  <a:srgbClr val="666699"/>
                </a:solidFill>
                <a:latin typeface="Arial"/>
              </a:rPr>
              <a:t>&lt;armel.fauveau@globalis-ms.co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6699"/>
                </a:solidFill>
                <a:latin typeface="Arial"/>
              </a:rPr>
              <a:t>GLOBALIS medi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obali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286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logo_PhpGroup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811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Retour sur le Zend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Cas d’un script de calcul intens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des décimales de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te-form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-PIII / 700 Mhz / 256 Mo S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 3.0.18, PHP 4.0.6 et Zend Optimizer 1.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énario (Apache Be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0 requê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 5, 10, 15, 20, 25 et 50 accès con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191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Retour sur le Zend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Résultats observ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formances comparées à PHP3 (~ 0.9 req/s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4 : 199% (~ 2.66 req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4 + Zend Optimizer : 346% (~ 3.97 req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P 3 commence à saturer au delà de 25 accès con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  <p:pic>
        <p:nvPicPr>
          <p:cNvPr id="56" name="pi" descr=""/>
          <p:cNvPicPr/>
          <p:nvPr/>
        </p:nvPicPr>
        <p:blipFill>
          <a:blip r:embed="rId2"/>
          <a:stretch/>
        </p:blipFill>
        <p:spPr>
          <a:xfrm>
            <a:off x="1523880" y="301788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Les caches de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reur 4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pCache, jpCache, PEAR::Cach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2666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Cas de la page d ’accueil de PHP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3526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int d ’entrée logique des visi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ractéristique d ’un site dynamique à base de PHP/MySQ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ux d ’include succes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cture de données stockées en base (SELECT COUNT, SELECT LI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sible sur : http://www.phpindex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Les caches de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Résultats observ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formances comparées à PHP3 (~ 13.72 req/s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4 : 28% (~ 17.83 req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4 + ZendCache (1.1.0b) : 51% (~ 20.69 req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P4 + jpCache : 531% (~ 90.22 req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  <p:pic>
        <p:nvPicPr>
          <p:cNvPr id="69" name="home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4762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Les caches de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Oui ma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aches de pages ne sont pas adaptés à l ’ensemble des problémat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ges fréquemment mise à 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ERT,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ntégration peut s’avérer complexe et nécessite des réglages au cas par cas, sous peine de surpris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Apache et mod gz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(.ht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on 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minimum_file_size  1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maximum_file_size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maximum_inmem_size 1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item_include mime "application/x-httpd-php3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item_include mime text/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item_include mime "httpd/unix-directory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dechunk 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temp_dir "/tmp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keep_workfiles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item_include file "\.php3$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mod_gzip_item_include file "\.html$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Apache et mod gz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Résultat observ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inution de la bande passante consommée (divisée par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un même site et un nombre de pages/vues é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embre : avec mod_g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 : sans mod_g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ges servies bcp plus rapid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  <p:pic>
        <p:nvPicPr>
          <p:cNvPr id="85" name="webalizer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99"/>
                </a:solidFill>
                <a:latin typeface="Arial"/>
              </a:rPr>
              <a:t>Apache et mod gz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99"/>
                </a:solidFill>
                <a:latin typeface="Arial"/>
              </a:rPr>
              <a:t>Oui ma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ntion aux clients qui menten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ntion à la charge du 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800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_PhpGroup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1811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1:20:39Z</dcterms:created>
  <dc:creator>Armel FAUVEAU</dc:creator>
  <dc:description/>
  <dc:language>en-US</dc:language>
  <cp:lastModifiedBy>Armel FAUVEAU</cp:lastModifiedBy>
  <dcterms:modified xsi:type="dcterms:W3CDTF">2001-11-28T01:05:01Z</dcterms:modified>
  <cp:revision>38</cp:revision>
  <dc:subject/>
  <dc:title>Aucun titre de diapositive</dc:title>
</cp:coreProperties>
</file>