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png" ContentType="image/png"/>
  <Override PartName="/ppt/media/image9.wmf" ContentType="image/x-wmf"/>
  <Override PartName="/ppt/media/image10.wmf" ContentType="image/x-wmf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1"/>
          </p:nvPr>
        </p:nvSpPr>
        <p:spPr>
          <a:xfrm>
            <a:off x="3779640" y="0"/>
            <a:ext cx="2889000" cy="49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lstStyle>
            <a:lvl1pPr indent="0" algn="r"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  <a:defRPr b="0" lang="fr-FR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853560" y="746280"/>
            <a:ext cx="4962600" cy="3720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a0466"/>
                </a:solidFill>
                <a:latin typeface="Verdana"/>
              </a:rPr>
              <a:t>Click to move the slide</a:t>
            </a:r>
            <a:endParaRPr b="1" lang="en-US" sz="2800" spc="-1" strike="noStrike">
              <a:solidFill>
                <a:srgbClr val="4a0466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890280" y="4714920"/>
            <a:ext cx="4887720" cy="44654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2"/>
          </p:nvPr>
        </p:nvSpPr>
        <p:spPr>
          <a:xfrm>
            <a:off x="3779640" y="9431280"/>
            <a:ext cx="2889000" cy="49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  <a:defRPr b="0" lang="fr-FR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fld id="{9AB1BB99-6083-4C5A-B416-045D44340A93}" type="slidenum">
              <a:rPr b="0" lang="fr-FR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-74160" y="9717120"/>
            <a:ext cx="2334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Présentation corporate - CHA - v1 - 5/4/0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853920" y="746280"/>
            <a:ext cx="4962600" cy="372096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890280" y="4714920"/>
            <a:ext cx="4887720" cy="4465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Owendo est sur le marché des nouvelles technologies depuis 6 ans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Nous sommes un acteur reconnu sur le marché avec 94% d ’augmentation de chiffres d ’affaires en 2000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Nous sommes bénéficiaires depuis la création de l ’entreprise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245 collaborateurs avec un objectif de recrutement de 150 collaborateurs en 2001 pour assumer notre croissance interne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Nous sommes présents dans les grandes régions économiques français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elles références clients avec un fort taux de fidélisation. Chaque commercial doit avoir en tête quelques références sur son secteur d ’activité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853920" y="746280"/>
            <a:ext cx="4962600" cy="372096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890280" y="4714920"/>
            <a:ext cx="4887720" cy="44654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Owendo est sur le marché des nouvelles technologies depuis 6 ans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Nous sommes un acteur reconnu sur le marché avec 94% d ’augmentation de chiffres d ’affaires en 2000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Nous sommes bénéficiaires depuis la création de l ’entreprise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245 collaborateurs avec un objectif de recrutement de 150 collaborateurs en 2001 pour assumer notre croissance interne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Nous sommes présents dans les grandes régions économiques français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elles références clients avec un fort taux de fidélisation. Chaque commercial doit avoir en tête quelques références sur son secteur d ’activité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853920" y="746280"/>
            <a:ext cx="4962600" cy="372096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890280" y="4714920"/>
            <a:ext cx="4887720" cy="44654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Owendo est sur le marché des nouvelles technologies depuis 6 ans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Nous sommes un acteur reconnu sur le marché avec 94% d ’augmentation de chiffres d ’affaires en 2000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Nous sommes bénéficiaires depuis la création de l ’entreprise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245 collaborateurs avec un objectif de recrutement de 150 collaborateurs en 2001 pour assumer notre croissance interne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Nous sommes présents dans les grandes régions économiques français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elles références clients avec un fort taux de fidélisation. Chaque commercial doit avoir en tête quelques références sur son secteur d ’activité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06280" y="1224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a0466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22480" y="1636560"/>
            <a:ext cx="750888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22480" y="4085280"/>
            <a:ext cx="750888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06280" y="1224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a0466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22480" y="1636560"/>
            <a:ext cx="366408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0160" y="1636560"/>
            <a:ext cx="366408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22480" y="4085280"/>
            <a:ext cx="366408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0160" y="4085280"/>
            <a:ext cx="366408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06280" y="1224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a0466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22480" y="1636560"/>
            <a:ext cx="24177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61560" y="1636560"/>
            <a:ext cx="24177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00640" y="1636560"/>
            <a:ext cx="24177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22480" y="4085280"/>
            <a:ext cx="24177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61560" y="4085280"/>
            <a:ext cx="24177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00640" y="4085280"/>
            <a:ext cx="24177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06280" y="1224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a0466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22480" y="1636560"/>
            <a:ext cx="750888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06280" y="1224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a0466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22480" y="1636560"/>
            <a:ext cx="750888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06280" y="1224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a0466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22480" y="1636560"/>
            <a:ext cx="366408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970160" y="1636560"/>
            <a:ext cx="366408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06280" y="1224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a0466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06280" y="12240"/>
            <a:ext cx="7391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06280" y="1224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a0466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22480" y="1636560"/>
            <a:ext cx="366408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0160" y="1636560"/>
            <a:ext cx="366408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22480" y="4085280"/>
            <a:ext cx="366408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06280" y="1224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a0466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22480" y="1636560"/>
            <a:ext cx="750888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06280" y="1224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a0466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22480" y="1636560"/>
            <a:ext cx="366408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70160" y="1636560"/>
            <a:ext cx="366408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970160" y="4085280"/>
            <a:ext cx="366408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06280" y="1224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a0466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22480" y="1636560"/>
            <a:ext cx="366408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70160" y="1636560"/>
            <a:ext cx="366408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22480" y="4085280"/>
            <a:ext cx="750888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06280" y="1224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a04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22480" y="1636560"/>
            <a:ext cx="750888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22480" y="4085280"/>
            <a:ext cx="750888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06280" y="1224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a0466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22480" y="1636560"/>
            <a:ext cx="366408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970160" y="1636560"/>
            <a:ext cx="366408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22480" y="4085280"/>
            <a:ext cx="366408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970160" y="4085280"/>
            <a:ext cx="366408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06280" y="1224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a0466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22480" y="1636560"/>
            <a:ext cx="24177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661560" y="1636560"/>
            <a:ext cx="24177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200640" y="1636560"/>
            <a:ext cx="24177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22480" y="4085280"/>
            <a:ext cx="24177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661560" y="4085280"/>
            <a:ext cx="24177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200640" y="4085280"/>
            <a:ext cx="241776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06280" y="1224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a0466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22480" y="1636560"/>
            <a:ext cx="750888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06280" y="1224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a0466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22480" y="1636560"/>
            <a:ext cx="366408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0160" y="1636560"/>
            <a:ext cx="366408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06280" y="1224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a0466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06280" y="12240"/>
            <a:ext cx="7391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06280" y="1224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a0466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22480" y="1636560"/>
            <a:ext cx="366408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0160" y="1636560"/>
            <a:ext cx="366408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22480" y="4085280"/>
            <a:ext cx="366408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06280" y="1224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a0466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22480" y="1636560"/>
            <a:ext cx="366408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0160" y="1636560"/>
            <a:ext cx="366408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0160" y="4085280"/>
            <a:ext cx="366408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06280" y="1224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a0466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22480" y="1636560"/>
            <a:ext cx="366408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0160" y="1636560"/>
            <a:ext cx="366408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22480" y="4085280"/>
            <a:ext cx="750888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06280" y="1224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a0466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4a0466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22480" y="1636560"/>
            <a:ext cx="750888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4a04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292929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4a0466"/>
              </a:buClr>
              <a:buFont typeface="MT Extra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29292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4a04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292929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292929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292929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292929"/>
              </a:solidFill>
              <a:latin typeface="Verdana"/>
            </a:endParaRPr>
          </a:p>
        </p:txBody>
      </p:sp>
      <p:sp>
        <p:nvSpPr>
          <p:cNvPr id="2" name="">
            <a:hlinkClick r:id="" action="ppaction://hlinkshowjump?jump=nextslide"/>
          </p:cNvPr>
          <p:cNvSpPr/>
          <p:nvPr/>
        </p:nvSpPr>
        <p:spPr>
          <a:xfrm>
            <a:off x="8477280" y="6561000"/>
            <a:ext cx="270000" cy="297000"/>
          </a:xfrm>
          <a:custGeom>
            <a:avLst/>
            <a:gdLst>
              <a:gd name="textAreaLeft" fmla="*/ 17280 w 270000"/>
              <a:gd name="textAreaRight" fmla="*/ 252720 w 270000"/>
              <a:gd name="textAreaTop" fmla="*/ 17280 h 297000"/>
              <a:gd name="textAreaBottom" fmla="*/ 279720 h 297000"/>
            </a:gdLst>
            <a:ahLst/>
            <a:rect l="textAreaLeft" t="textAreaTop" r="textAreaRight" b="textAreaBottom"/>
            <a:pathLst>
              <a:path w="21600" h="23757">
                <a:moveTo>
                  <a:pt x="0" y="0"/>
                </a:moveTo>
                <a:lnTo>
                  <a:pt x="21600" y="0"/>
                </a:lnTo>
                <a:lnTo>
                  <a:pt x="21600" y="23757"/>
                </a:lnTo>
                <a:lnTo>
                  <a:pt x="0" y="23757"/>
                </a:lnTo>
                <a:close/>
              </a:path>
              <a:path fill="lightenLess" w="21600" h="2375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757">
                <a:moveTo>
                  <a:pt x="21600" y="0"/>
                </a:moveTo>
                <a:lnTo>
                  <a:pt x="21600" y="23757"/>
                </a:lnTo>
                <a:lnTo>
                  <a:pt x="20200" y="22357"/>
                </a:lnTo>
                <a:lnTo>
                  <a:pt x="20200" y="1400"/>
                </a:lnTo>
                <a:close/>
              </a:path>
              <a:path fill="darkenLess" w="21600" h="23757">
                <a:moveTo>
                  <a:pt x="21600" y="23757"/>
                </a:moveTo>
                <a:lnTo>
                  <a:pt x="0" y="23757"/>
                </a:lnTo>
                <a:lnTo>
                  <a:pt x="1400" y="22357"/>
                </a:lnTo>
                <a:lnTo>
                  <a:pt x="20200" y="22357"/>
                </a:lnTo>
                <a:close/>
              </a:path>
              <a:path fill="lighten" w="21600" h="23757">
                <a:moveTo>
                  <a:pt x="0" y="23757"/>
                </a:moveTo>
                <a:lnTo>
                  <a:pt x="0" y="0"/>
                </a:lnTo>
                <a:lnTo>
                  <a:pt x="1400" y="1400"/>
                </a:lnTo>
                <a:lnTo>
                  <a:pt x="1400" y="22357"/>
                </a:lnTo>
                <a:close/>
              </a:path>
              <a:path fill="darken" w="21600" h="23757">
                <a:moveTo>
                  <a:pt x="14299" y="11879"/>
                </a:moveTo>
                <a:lnTo>
                  <a:pt x="3794" y="18885"/>
                </a:lnTo>
                <a:lnTo>
                  <a:pt x="3794" y="4872"/>
                </a:lnTo>
                <a:close/>
              </a:path>
              <a:path fill="darken" w="21600" h="23757">
                <a:moveTo>
                  <a:pt x="16144" y="4872"/>
                </a:moveTo>
                <a:lnTo>
                  <a:pt x="16144" y="18885"/>
                </a:lnTo>
                <a:lnTo>
                  <a:pt x="17806" y="18885"/>
                </a:lnTo>
                <a:lnTo>
                  <a:pt x="17806" y="487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7921800" y="6551640"/>
            <a:ext cx="320400" cy="306360"/>
          </a:xfrm>
          <a:custGeom>
            <a:avLst/>
            <a:gdLst>
              <a:gd name="textAreaLeft" fmla="*/ 19800 w 320400"/>
              <a:gd name="textAreaRight" fmla="*/ 300600 w 32040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22589" h="21600">
                <a:moveTo>
                  <a:pt x="0" y="0"/>
                </a:moveTo>
                <a:lnTo>
                  <a:pt x="22589" y="0"/>
                </a:lnTo>
                <a:lnTo>
                  <a:pt x="22589" y="21600"/>
                </a:lnTo>
                <a:lnTo>
                  <a:pt x="0" y="21600"/>
                </a:lnTo>
                <a:close/>
              </a:path>
              <a:path fill="lightenLess" w="22589" h="21600">
                <a:moveTo>
                  <a:pt x="0" y="0"/>
                </a:moveTo>
                <a:lnTo>
                  <a:pt x="22589" y="0"/>
                </a:lnTo>
                <a:lnTo>
                  <a:pt x="21189" y="1400"/>
                </a:lnTo>
                <a:lnTo>
                  <a:pt x="1400" y="1400"/>
                </a:lnTo>
                <a:close/>
              </a:path>
              <a:path fill="darken" w="22589" h="21600">
                <a:moveTo>
                  <a:pt x="22589" y="0"/>
                </a:moveTo>
                <a:lnTo>
                  <a:pt x="22589" y="21600"/>
                </a:lnTo>
                <a:lnTo>
                  <a:pt x="21189" y="20200"/>
                </a:lnTo>
                <a:lnTo>
                  <a:pt x="21189" y="1400"/>
                </a:lnTo>
                <a:close/>
              </a:path>
              <a:path fill="darkenLess" w="22589" h="21600">
                <a:moveTo>
                  <a:pt x="225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189" y="20200"/>
                </a:lnTo>
                <a:close/>
              </a:path>
              <a:path fill="lighten" w="225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589" h="21600">
                <a:moveTo>
                  <a:pt x="4288" y="10800"/>
                </a:moveTo>
                <a:lnTo>
                  <a:pt x="18301" y="3794"/>
                </a:lnTo>
                <a:lnTo>
                  <a:pt x="18301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965160" y="1231920"/>
            <a:ext cx="8178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031760"/>
            <a:ext cx="968400" cy="201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91960" y="388800"/>
            <a:ext cx="9493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EEB26-1304-4B48-8B73-D79A0154541B}" type="slidenum">
              <a:rPr b="0" i="1" lang="fr-F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965160" y="1244520"/>
            <a:ext cx="0" cy="5613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0" y="6481800"/>
            <a:ext cx="979560" cy="376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a0466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4a0466"/>
              </a:solidFill>
              <a:latin typeface="Verdana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773280" y="620640"/>
            <a:ext cx="2395440" cy="1904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90520" y="6459480"/>
            <a:ext cx="174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4a0466"/>
                </a:solidFill>
                <a:latin typeface="HandelGothic BT"/>
              </a:rPr>
              <a:t>just think e-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Nhoizey@clever-age.com" TargetMode="External"/><Relationship Id="rId2" Type="http://schemas.openxmlformats.org/officeDocument/2006/relationships/hyperlink" Target="mailto:Nhoizey@clever-age.com" TargetMode="External"/><Relationship Id="rId3" Type="http://schemas.openxmlformats.org/officeDocument/2006/relationships/hyperlink" Target="mailto:Nhoizey@clever-age.com" TargetMode="External"/><Relationship Id="rId4" Type="http://schemas.openxmlformats.org/officeDocument/2006/relationships/hyperlink" Target="mailto:Nhoizey@clever-age.com" TargetMode="External"/><Relationship Id="rId5" Type="http://schemas.openxmlformats.org/officeDocument/2006/relationships/hyperlink" Target="mailto:Nhoizey@clever-age.com" TargetMode="External"/><Relationship Id="rId6" Type="http://schemas.openxmlformats.org/officeDocument/2006/relationships/hyperlink" Target="http://www.clever-age.com/" TargetMode="External"/><Relationship Id="rId7" Type="http://schemas.openxmlformats.org/officeDocument/2006/relationships/hyperlink" Target="http://www.clever-age.com/" TargetMode="External"/><Relationship Id="rId8" Type="http://schemas.openxmlformats.org/officeDocument/2006/relationships/hyperlink" Target="http://www.clever-age.com/" TargetMode="External"/><Relationship Id="rId9" Type="http://schemas.openxmlformats.org/officeDocument/2006/relationships/hyperlink" Target="http://www.clever-age.com/" TargetMode="External"/><Relationship Id="rId10" Type="http://schemas.openxmlformats.org/officeDocument/2006/relationships/hyperlink" Target="http://www.clever-age.com/" TargetMode="External"/><Relationship Id="rId11" Type="http://schemas.openxmlformats.org/officeDocument/2006/relationships/hyperlink" Target="mailto:mbelge@clever-age.com" TargetMode="External"/><Relationship Id="rId12" Type="http://schemas.openxmlformats.org/officeDocument/2006/relationships/hyperlink" Target="mailto:mbelge@clever-age.com" TargetMode="External"/><Relationship Id="rId13" Type="http://schemas.openxmlformats.org/officeDocument/2006/relationships/hyperlink" Target="mailto:mbelge@clever-age.com" TargetMode="External"/><Relationship Id="rId14" Type="http://schemas.openxmlformats.org/officeDocument/2006/relationships/hyperlink" Target="mailto:mbelge@clever-age.com" TargetMode="External"/><Relationship Id="rId15" Type="http://schemas.openxmlformats.org/officeDocument/2006/relationships/hyperlink" Target="mailto:mbelge@clever-age.com" TargetMode="External"/><Relationship Id="rId16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zend.com/" TargetMode="External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fbon@clever-age.com" TargetMode="External"/><Relationship Id="rId2" Type="http://schemas.openxmlformats.org/officeDocument/2006/relationships/hyperlink" Target="mailto:fbon@clever-age.com" TargetMode="External"/><Relationship Id="rId3" Type="http://schemas.openxmlformats.org/officeDocument/2006/relationships/hyperlink" Target="mailto:fbon@clever-age.com" TargetMode="External"/><Relationship Id="rId4" Type="http://schemas.openxmlformats.org/officeDocument/2006/relationships/hyperlink" Target="mailto:fbon@clever-age.com" TargetMode="External"/><Relationship Id="rId5" Type="http://schemas.openxmlformats.org/officeDocument/2006/relationships/hyperlink" Target="mailto:fbon@clever-age.com" TargetMode="External"/><Relationship Id="rId6" Type="http://schemas.openxmlformats.org/officeDocument/2006/relationships/hyperlink" Target="mailto:fbon@clever-age.com" TargetMode="External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010240" y="1892160"/>
            <a:ext cx="5075640" cy="28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4a0466"/>
                </a:solidFill>
                <a:latin typeface="Arial"/>
              </a:rPr>
              <a:t>PHP à grand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4a0466"/>
                </a:solidFill>
                <a:latin typeface="Arial"/>
              </a:rPr>
              <a:t>Vites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4a0466"/>
                </a:solidFill>
                <a:latin typeface="Arial"/>
              </a:rPr>
              <a:t>Clever A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4a0466"/>
                </a:solidFill>
                <a:latin typeface="Arial"/>
              </a:rPr>
              <a:t>Conseil en architecture techn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828960" y="5594400"/>
            <a:ext cx="50832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 u="sng">
                <a:solidFill>
                  <a:srgbClr val="800080"/>
                </a:solidFill>
                <a:uFillTx/>
                <a:latin typeface="Arial"/>
                <a:hlinkClick r:id="rId1"/>
              </a:rPr>
              <a:t>fbon</a:t>
            </a:r>
            <a:r>
              <a:rPr b="0" lang="fr-FR" sz="1400" spc="-1" strike="noStrike" u="sng">
                <a:solidFill>
                  <a:srgbClr val="800080"/>
                </a:solidFill>
                <a:uFillTx/>
                <a:latin typeface="Arial"/>
                <a:hlinkClick r:id="rId2"/>
              </a:rPr>
              <a:t>@</a:t>
            </a:r>
            <a:r>
              <a:rPr b="0" lang="fr-FR" sz="1400" spc="-1" strike="noStrike" u="sng">
                <a:solidFill>
                  <a:srgbClr val="800080"/>
                </a:solidFill>
                <a:uFillTx/>
                <a:latin typeface="Arial"/>
                <a:hlinkClick r:id="rId3"/>
              </a:rPr>
              <a:t>clever</a:t>
            </a:r>
            <a:r>
              <a:rPr b="0" lang="fr-FR" sz="1400" spc="-1" strike="noStrike" u="sng">
                <a:solidFill>
                  <a:srgbClr val="800080"/>
                </a:solidFill>
                <a:uFillTx/>
                <a:latin typeface="Arial"/>
                <a:hlinkClick r:id="rId4"/>
              </a:rPr>
              <a:t>-age.</a:t>
            </a:r>
            <a:r>
              <a:rPr b="0" lang="fr-FR" sz="1400" spc="-1" strike="noStrike" u="sng">
                <a:solidFill>
                  <a:srgbClr val="800080"/>
                </a:solidFill>
                <a:uFillTx/>
                <a:latin typeface="Arial"/>
                <a:hlinkClick r:id="rId5"/>
              </a:rPr>
              <a:t>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 u="sng">
                <a:solidFill>
                  <a:srgbClr val="800080"/>
                </a:solidFill>
                <a:uFillTx/>
                <a:latin typeface="Arial"/>
                <a:hlinkClick r:id="rId6"/>
              </a:rPr>
              <a:t>mbelge</a:t>
            </a:r>
            <a:r>
              <a:rPr b="0" lang="fr-FR" sz="1400" spc="-1" strike="noStrike" u="sng">
                <a:solidFill>
                  <a:srgbClr val="800080"/>
                </a:solidFill>
                <a:uFillTx/>
                <a:latin typeface="Arial"/>
                <a:hlinkClick r:id="rId7"/>
              </a:rPr>
              <a:t>@</a:t>
            </a:r>
            <a:r>
              <a:rPr b="0" lang="fr-FR" sz="1400" spc="-1" strike="noStrike" u="sng">
                <a:solidFill>
                  <a:srgbClr val="800080"/>
                </a:solidFill>
                <a:uFillTx/>
                <a:latin typeface="Arial"/>
                <a:hlinkClick r:id="rId8"/>
              </a:rPr>
              <a:t>clever</a:t>
            </a:r>
            <a:r>
              <a:rPr b="0" lang="fr-FR" sz="1400" spc="-1" strike="noStrike" u="sng">
                <a:solidFill>
                  <a:srgbClr val="800080"/>
                </a:solidFill>
                <a:uFillTx/>
                <a:latin typeface="Arial"/>
                <a:hlinkClick r:id="rId9"/>
              </a:rPr>
              <a:t>-age.</a:t>
            </a:r>
            <a:r>
              <a:rPr b="0" lang="fr-FR" sz="1400" spc="-1" strike="noStrike" u="sng">
                <a:solidFill>
                  <a:srgbClr val="800080"/>
                </a:solidFill>
                <a:uFillTx/>
                <a:latin typeface="Arial"/>
                <a:hlinkClick r:id="rId10"/>
              </a:rPr>
              <a:t>com</a:t>
            </a:r>
            <a:r>
              <a:rPr b="0" i="1" lang="fr-FR" sz="1400" spc="-1" strike="noStrike">
                <a:solidFill>
                  <a:srgbClr val="4a0466"/>
                </a:solidFill>
                <a:latin typeface="Arial"/>
              </a:rPr>
              <a:t>, </a:t>
            </a:r>
            <a:r>
              <a:rPr b="0" lang="fr-FR" sz="1400" spc="-1" strike="noStrike" u="sng">
                <a:solidFill>
                  <a:srgbClr val="800080"/>
                </a:solidFill>
                <a:uFillTx/>
                <a:latin typeface="Arial"/>
                <a:hlinkClick r:id="rId11"/>
              </a:rPr>
              <a:t>nhoizey</a:t>
            </a:r>
            <a:r>
              <a:rPr b="0" lang="fr-FR" sz="1400" spc="-1" strike="noStrike" u="sng">
                <a:solidFill>
                  <a:srgbClr val="800080"/>
                </a:solidFill>
                <a:uFillTx/>
                <a:latin typeface="Arial"/>
                <a:hlinkClick r:id="rId12"/>
              </a:rPr>
              <a:t>@</a:t>
            </a:r>
            <a:r>
              <a:rPr b="0" lang="fr-FR" sz="1400" spc="-1" strike="noStrike" u="sng">
                <a:solidFill>
                  <a:srgbClr val="800080"/>
                </a:solidFill>
                <a:uFillTx/>
                <a:latin typeface="Arial"/>
                <a:hlinkClick r:id="rId13"/>
              </a:rPr>
              <a:t>clever</a:t>
            </a:r>
            <a:r>
              <a:rPr b="0" lang="fr-FR" sz="1400" spc="-1" strike="noStrike" u="sng">
                <a:solidFill>
                  <a:srgbClr val="800080"/>
                </a:solidFill>
                <a:uFillTx/>
                <a:latin typeface="Arial"/>
                <a:hlinkClick r:id="rId14"/>
              </a:rPr>
              <a:t>-age.</a:t>
            </a:r>
            <a:r>
              <a:rPr b="0" lang="fr-FR" sz="1400" spc="-1" strike="noStrike" u="sng">
                <a:solidFill>
                  <a:srgbClr val="800080"/>
                </a:solidFill>
                <a:uFillTx/>
                <a:latin typeface="Arial"/>
                <a:hlinkClick r:id="rId15"/>
              </a:rPr>
              <a:t>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06280" y="1224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4a0466"/>
                </a:solidFill>
                <a:latin typeface="Verdana"/>
              </a:rPr>
              <a:t>Résultats Capacité Transactionnelle</a:t>
            </a:r>
            <a:endParaRPr b="1" lang="en-US" sz="2800" spc="-1" strike="noStrike">
              <a:solidFill>
                <a:srgbClr val="4a04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22480" y="1636560"/>
            <a:ext cx="750888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4a04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92929"/>
                </a:solidFill>
                <a:latin typeface="Verdana"/>
              </a:rPr>
              <a:t>Détails des résultats par pages</a:t>
            </a:r>
            <a:endParaRPr b="0" lang="en-US" sz="2000" spc="-1" strike="noStrike">
              <a:solidFill>
                <a:srgbClr val="292929"/>
              </a:solidFill>
              <a:latin typeface="Verdana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1279440" y="2492280"/>
            <a:ext cx="7371000" cy="245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06280" y="1224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4a0466"/>
                </a:solidFill>
                <a:latin typeface="Verdana"/>
              </a:rPr>
              <a:t>Utilisation des ressources</a:t>
            </a:r>
            <a:endParaRPr b="1" lang="en-US" sz="2800" spc="-1" strike="noStrike">
              <a:solidFill>
                <a:srgbClr val="4a0466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1943280" y="1738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1104840" y="1486080"/>
          <a:ext cx="7586640" cy="4878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04840" y="1486080"/>
                    <a:ext cx="7586640" cy="487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06280" y="1224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4a0466"/>
                </a:solidFill>
                <a:latin typeface="Verdana"/>
              </a:rPr>
              <a:t>Utilisation des ressources</a:t>
            </a:r>
            <a:endParaRPr b="1" lang="en-US" sz="2800" spc="-1" strike="noStrike">
              <a:solidFill>
                <a:srgbClr val="4a0466"/>
              </a:solidFill>
              <a:latin typeface="Verdana"/>
            </a:endParaRPr>
          </a:p>
        </p:txBody>
      </p:sp>
      <p:sp>
        <p:nvSpPr>
          <p:cNvPr id="141" name=""/>
          <p:cNvSpPr/>
          <p:nvPr/>
        </p:nvSpPr>
        <p:spPr>
          <a:xfrm>
            <a:off x="2629080" y="1781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1841400" y="1420920"/>
          <a:ext cx="6093000" cy="5167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41400" y="1420920"/>
                    <a:ext cx="6093000" cy="516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06280" y="1224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4a0466"/>
                </a:solidFill>
                <a:latin typeface="Verdana"/>
              </a:rPr>
              <a:t>Zend Accelerator</a:t>
            </a:r>
            <a:endParaRPr b="1" lang="en-US" sz="2800" spc="-1" strike="noStrike">
              <a:solidFill>
                <a:srgbClr val="4a0466"/>
              </a:solidFill>
              <a:latin typeface="Verdana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282680" y="1528920"/>
            <a:ext cx="6985080" cy="507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06280" y="1224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4a0466"/>
                </a:solidFill>
                <a:latin typeface="Verdana"/>
              </a:rPr>
              <a:t>Zend Accelerator</a:t>
            </a:r>
            <a:endParaRPr b="1" lang="en-US" sz="2800" spc="-1" strike="noStrike">
              <a:solidFill>
                <a:srgbClr val="4a0466"/>
              </a:solidFill>
              <a:latin typeface="Verdana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282680" y="1527120"/>
            <a:ext cx="6997680" cy="508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06280" y="1224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4a0466"/>
                </a:solidFill>
                <a:latin typeface="Verdana"/>
              </a:rPr>
              <a:t>Nos recommandations</a:t>
            </a:r>
            <a:endParaRPr b="1" lang="en-US" sz="2800" spc="-1" strike="noStrike">
              <a:solidFill>
                <a:srgbClr val="4a04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22480" y="1636560"/>
            <a:ext cx="750888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4a04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92929"/>
                </a:solidFill>
                <a:latin typeface="Verdana"/>
              </a:rPr>
              <a:t>Bénéfice des solutions d’accélération de scripts</a:t>
            </a:r>
            <a:endParaRPr b="0" lang="en-US" sz="2000" spc="-1" strike="noStrike">
              <a:solidFill>
                <a:srgbClr val="292929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4a0466"/>
              </a:buClr>
              <a:buFont typeface="MT Extra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Amélioration de la capacité transactionnell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4a0466"/>
              </a:buClr>
              <a:buFont typeface="MT Extra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Réduction des temps de latenc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4a0466"/>
              </a:buClr>
              <a:buFont typeface="MT Extra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Optimisation des ressources du serveu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4a04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92929"/>
                </a:solidFill>
                <a:latin typeface="Verdana"/>
              </a:rPr>
              <a:t>Les critères de choix</a:t>
            </a:r>
            <a:endParaRPr b="0" lang="en-US" sz="2000" spc="-1" strike="noStrike">
              <a:solidFill>
                <a:srgbClr val="292929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4a0466"/>
              </a:buClr>
              <a:buFont typeface="MT Extra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Performanc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4a0466"/>
              </a:buClr>
              <a:buFont typeface="MT Extra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Budge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4a0466"/>
              </a:buClr>
              <a:buFont typeface="MT Extra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Support technique et assistance de l’éditeu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4a04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92929"/>
                </a:solidFill>
                <a:latin typeface="Verdana"/>
              </a:rPr>
              <a:t>URLs</a:t>
            </a:r>
            <a:endParaRPr b="0" lang="en-US" sz="2000" spc="-1" strike="noStrike">
              <a:solidFill>
                <a:srgbClr val="292929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4a0466"/>
              </a:buClr>
              <a:buFont typeface="MT Extra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 u="sng">
                <a:solidFill>
                  <a:srgbClr val="800080"/>
                </a:solidFill>
                <a:uFillTx/>
                <a:latin typeface="Verdana"/>
                <a:hlinkClick r:id="rId1"/>
              </a:rPr>
              <a:t>http://www.clever-age.com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4a0466"/>
              </a:buClr>
              <a:buFont typeface="MT Extra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http://www.zend.com (See Zend Accelerator in Action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06280" y="1224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4a0466"/>
                </a:solidFill>
                <a:latin typeface="Verdana"/>
              </a:rPr>
              <a:t>PHP à grande vitesse</a:t>
            </a:r>
            <a:endParaRPr b="1" lang="en-US" sz="2800" spc="-1" strike="noStrike">
              <a:solidFill>
                <a:srgbClr val="4a0466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19240" y="2104560"/>
            <a:ext cx="7508880" cy="33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a04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lever Age</a:t>
            </a:r>
            <a:endParaRPr b="0" lang="en-US" sz="2400" spc="-1" strike="noStrike">
              <a:solidFill>
                <a:srgbClr val="29292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4a04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es solutions d’accélération de scripts</a:t>
            </a:r>
            <a:endParaRPr b="0" lang="en-US" sz="2400" spc="-1" strike="noStrike">
              <a:solidFill>
                <a:srgbClr val="29292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4a04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 u="sng">
                <a:solidFill>
                  <a:srgbClr val="ff6600"/>
                </a:solidFill>
                <a:uFillTx/>
                <a:latin typeface="Verdana"/>
              </a:rPr>
              <a:t>Autres solutions d’optimisation</a:t>
            </a:r>
            <a:endParaRPr b="0" lang="en-US" sz="2400" spc="-1" strike="noStrike">
              <a:solidFill>
                <a:srgbClr val="292929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06280" y="1224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4a0466"/>
                </a:solidFill>
                <a:latin typeface="Verdana"/>
              </a:rPr>
              <a:t>PHP à grande vitesse</a:t>
            </a:r>
            <a:endParaRPr b="1" lang="en-US" sz="2800" spc="-1" strike="noStrike">
              <a:solidFill>
                <a:srgbClr val="4a0466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19240" y="2104560"/>
            <a:ext cx="7508880" cy="33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a04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 u="sng">
                <a:solidFill>
                  <a:srgbClr val="ff6600"/>
                </a:solidFill>
                <a:uFillTx/>
                <a:latin typeface="Verdana"/>
              </a:rPr>
              <a:t>Clever Age</a:t>
            </a:r>
            <a:endParaRPr b="0" lang="en-US" sz="2400" spc="-1" strike="noStrike">
              <a:solidFill>
                <a:srgbClr val="29292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4a04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es solutions d’accélération de scripts</a:t>
            </a:r>
            <a:endParaRPr b="0" lang="en-US" sz="2400" spc="-1" strike="noStrike">
              <a:solidFill>
                <a:srgbClr val="29292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4a04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292929"/>
                </a:solidFill>
                <a:latin typeface="Verdana"/>
              </a:rPr>
              <a:t>Autres solutions d’optimisation</a:t>
            </a:r>
            <a:endParaRPr b="0" lang="en-US" sz="2400" spc="-1" strike="noStrike">
              <a:solidFill>
                <a:srgbClr val="292929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06280" y="1224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4a0466"/>
                </a:solidFill>
                <a:latin typeface="Verdana"/>
              </a:rPr>
              <a:t>Clever Age</a:t>
            </a:r>
            <a:endParaRPr b="1" lang="en-US" sz="2800" spc="-1" strike="noStrike">
              <a:solidFill>
                <a:srgbClr val="4a0466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22480" y="1636560"/>
            <a:ext cx="750888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4a04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Cabinet de conseil en architecture technique (</a:t>
            </a:r>
            <a:r>
              <a:rPr b="0" lang="fr-FR" sz="2000" spc="-1" strike="noStrike" u="sng">
                <a:solidFill>
                  <a:srgbClr val="800080"/>
                </a:solidFill>
                <a:uFillTx/>
                <a:latin typeface="Verdana"/>
                <a:ea typeface="Times New Roman"/>
                <a:hlinkClick r:id="rId1"/>
              </a:rPr>
              <a:t>http://</a:t>
            </a:r>
            <a:r>
              <a:rPr b="0" lang="fr-FR" sz="2000" spc="-1" strike="noStrike" u="sng">
                <a:solidFill>
                  <a:srgbClr val="800080"/>
                </a:solidFill>
                <a:uFillTx/>
                <a:latin typeface="Verdana"/>
                <a:ea typeface="Times New Roman"/>
                <a:hlinkClick r:id="rId2"/>
              </a:rPr>
              <a:t>www</a:t>
            </a:r>
            <a:r>
              <a:rPr b="0" lang="fr-FR" sz="2000" spc="-1" strike="noStrike" u="sng">
                <a:solidFill>
                  <a:srgbClr val="800080"/>
                </a:solidFill>
                <a:uFillTx/>
                <a:latin typeface="Verdana"/>
                <a:ea typeface="Times New Roman"/>
                <a:hlinkClick r:id="rId3"/>
              </a:rPr>
              <a:t>.</a:t>
            </a:r>
            <a:r>
              <a:rPr b="0" lang="fr-FR" sz="2000" spc="-1" strike="noStrike" u="sng">
                <a:solidFill>
                  <a:srgbClr val="800080"/>
                </a:solidFill>
                <a:uFillTx/>
                <a:latin typeface="Verdana"/>
                <a:ea typeface="Times New Roman"/>
                <a:hlinkClick r:id="rId4"/>
              </a:rPr>
              <a:t>clever</a:t>
            </a:r>
            <a:r>
              <a:rPr b="0" lang="fr-FR" sz="2000" spc="-1" strike="noStrike" u="sng">
                <a:solidFill>
                  <a:srgbClr val="800080"/>
                </a:solidFill>
                <a:uFillTx/>
                <a:latin typeface="Verdana"/>
                <a:ea typeface="Times New Roman"/>
                <a:hlinkClick r:id="rId5"/>
              </a:rPr>
              <a:t>-age.</a:t>
            </a:r>
            <a:r>
              <a:rPr b="0" lang="fr-FR" sz="2000" spc="-1" strike="noStrike" u="sng">
                <a:solidFill>
                  <a:srgbClr val="800080"/>
                </a:solidFill>
                <a:uFillTx/>
                <a:latin typeface="Verdana"/>
                <a:ea typeface="Times New Roman"/>
                <a:hlinkClick r:id="rId6"/>
              </a:rPr>
              <a:t>com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)</a:t>
            </a:r>
            <a:endParaRPr b="0" lang="en-US" sz="2000" spc="-1" strike="noStrike">
              <a:solidFill>
                <a:srgbClr val="292929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4a0466"/>
              </a:buClr>
              <a:buFont typeface="MT Extra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 u="sng">
                <a:solidFill>
                  <a:srgbClr val="000000"/>
                </a:solidFill>
                <a:uFillTx/>
                <a:latin typeface="Verdana"/>
                <a:ea typeface="Times New Roman"/>
              </a:rPr>
              <a:t>Mission: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Aider les organisations à construire des architectures informatiques pérenn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"/>
          <p:cNvSpPr/>
          <p:nvPr/>
        </p:nvSpPr>
        <p:spPr>
          <a:xfrm>
            <a:off x="1447920" y="3390840"/>
            <a:ext cx="1574640" cy="647640"/>
          </a:xfrm>
          <a:prstGeom prst="rect">
            <a:avLst/>
          </a:prstGeom>
          <a:solidFill>
            <a:srgbClr val="ffe0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ahoma"/>
              </a:rPr>
              <a:t>Assist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ahoma"/>
              </a:rPr>
              <a:t>CD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577960" y="4457880"/>
            <a:ext cx="1562400" cy="6476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ahoma"/>
              </a:rPr>
              <a:t>Choix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ahoma"/>
              </a:rPr>
              <a:t>architec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502160" y="3390840"/>
            <a:ext cx="1562040" cy="647640"/>
          </a:xfrm>
          <a:prstGeom prst="rect">
            <a:avLst/>
          </a:prstGeom>
          <a:solidFill>
            <a:srgbClr val="ffe0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ahoma"/>
              </a:rPr>
              <a:t>Assist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ahoma"/>
              </a:rPr>
              <a:t>MO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502160" y="4457880"/>
            <a:ext cx="1562040" cy="647640"/>
          </a:xfrm>
          <a:prstGeom prst="rect">
            <a:avLst/>
          </a:prstGeom>
          <a:solidFill>
            <a:srgbClr val="ffe0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ahoma"/>
              </a:rPr>
              <a:t>Assist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ahoma"/>
              </a:rPr>
              <a:t>MO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426360" y="4457880"/>
            <a:ext cx="1562040" cy="6476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ahoma"/>
              </a:rPr>
              <a:t>Soft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ahoma"/>
              </a:rPr>
              <a:t>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26360" y="5473800"/>
            <a:ext cx="1562040" cy="6476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ahoma"/>
              </a:rPr>
              <a:t>Tests Monté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ahoma"/>
              </a:rPr>
              <a:t>en char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426360" y="3390840"/>
            <a:ext cx="1562040" cy="6476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ahoma"/>
              </a:rPr>
              <a:t>Dir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ahoma"/>
              </a:rPr>
              <a:t>Proj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5" name=""/>
          <p:cNvCxnSpPr>
            <a:stCxn id="98" idx="3"/>
            <a:endCxn id="100" idx="1"/>
          </p:cNvCxnSpPr>
          <p:nvPr/>
        </p:nvCxnSpPr>
        <p:spPr>
          <a:xfrm>
            <a:off x="3022560" y="3714480"/>
            <a:ext cx="1480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"/>
          <p:cNvCxnSpPr>
            <a:stCxn id="100" idx="3"/>
            <a:endCxn id="104" idx="1"/>
          </p:cNvCxnSpPr>
          <p:nvPr/>
        </p:nvCxnSpPr>
        <p:spPr>
          <a:xfrm>
            <a:off x="6064200" y="3714480"/>
            <a:ext cx="362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1" idx="3"/>
            <a:endCxn id="102" idx="1"/>
          </p:cNvCxnSpPr>
          <p:nvPr/>
        </p:nvCxnSpPr>
        <p:spPr>
          <a:xfrm>
            <a:off x="6064200" y="4781160"/>
            <a:ext cx="362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9" idx="3"/>
            <a:endCxn id="101" idx="1"/>
          </p:cNvCxnSpPr>
          <p:nvPr/>
        </p:nvCxnSpPr>
        <p:spPr>
          <a:xfrm>
            <a:off x="4140000" y="4781160"/>
            <a:ext cx="362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98" idx="2"/>
            <a:endCxn id="99" idx="1"/>
          </p:cNvCxnSpPr>
          <p:nvPr/>
        </p:nvCxnSpPr>
        <p:spPr>
          <a:xfrm flipH="1" rot="16200000">
            <a:off x="2035080" y="4238280"/>
            <a:ext cx="743760" cy="343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1" idx="2"/>
            <a:endCxn id="103" idx="1"/>
          </p:cNvCxnSpPr>
          <p:nvPr/>
        </p:nvCxnSpPr>
        <p:spPr>
          <a:xfrm flipH="1" rot="16200000">
            <a:off x="5508000" y="4879800"/>
            <a:ext cx="692640" cy="1143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06280" y="1224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4a0466"/>
                </a:solidFill>
                <a:latin typeface="Verdana"/>
              </a:rPr>
              <a:t>PHP à grande vitesse</a:t>
            </a:r>
            <a:endParaRPr b="1" lang="en-US" sz="2800" spc="-1" strike="noStrike">
              <a:solidFill>
                <a:srgbClr val="4a0466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19240" y="2104560"/>
            <a:ext cx="7508880" cy="33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a04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lever Age</a:t>
            </a:r>
            <a:endParaRPr b="0" lang="en-US" sz="2400" spc="-1" strike="noStrike">
              <a:solidFill>
                <a:srgbClr val="29292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4a04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 u="sng">
                <a:solidFill>
                  <a:srgbClr val="ff6600"/>
                </a:solidFill>
                <a:uFillTx/>
                <a:latin typeface="Verdana"/>
              </a:rPr>
              <a:t>Les solutions d’accélération de scripts</a:t>
            </a:r>
            <a:endParaRPr b="0" lang="en-US" sz="2400" spc="-1" strike="noStrike">
              <a:solidFill>
                <a:srgbClr val="29292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4a04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292929"/>
                </a:solidFill>
                <a:latin typeface="Verdana"/>
              </a:rPr>
              <a:t>Autres solutions d’optimisation</a:t>
            </a:r>
            <a:endParaRPr b="0" lang="en-US" sz="2400" spc="-1" strike="noStrike">
              <a:solidFill>
                <a:srgbClr val="292929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06280" y="1224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4a0466"/>
                </a:solidFill>
                <a:latin typeface="Verdana"/>
              </a:rPr>
              <a:t>Principe de fonctionnement</a:t>
            </a:r>
            <a:endParaRPr b="1" lang="en-US" sz="2800" spc="-1" strike="noStrike">
              <a:solidFill>
                <a:srgbClr val="4a0466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22480" y="1636560"/>
            <a:ext cx="750888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4a04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92929"/>
                </a:solidFill>
                <a:latin typeface="Verdana"/>
              </a:rPr>
              <a:t>Stockage des résultats de compilation de scripts PHP</a:t>
            </a:r>
            <a:endParaRPr b="0" lang="en-US" sz="2000" spc="-1" strike="noStrike">
              <a:solidFill>
                <a:srgbClr val="292929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4a04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92929"/>
                </a:solidFill>
                <a:latin typeface="Verdana"/>
              </a:rPr>
              <a:t>Similaire à Prepare () / Execute() pour bases de données</a:t>
            </a:r>
            <a:endParaRPr b="0" lang="en-US" sz="2000" spc="-1" strike="noStrike">
              <a:solidFill>
                <a:srgbClr val="292929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4a04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92929"/>
                </a:solidFill>
                <a:latin typeface="Verdana"/>
              </a:rPr>
              <a:t>Similaire au JIT Compiler</a:t>
            </a:r>
            <a:endParaRPr b="0" lang="en-US" sz="2000" spc="-1" strike="noStrike">
              <a:solidFill>
                <a:srgbClr val="292929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4a04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92929"/>
                </a:solidFill>
                <a:latin typeface="Verdana"/>
              </a:rPr>
              <a:t>Diverses solutions disponibles</a:t>
            </a:r>
            <a:endParaRPr b="0" lang="en-US" sz="2000" spc="-1" strike="noStrike">
              <a:solidFill>
                <a:srgbClr val="292929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4a0466"/>
              </a:buClr>
              <a:buFont typeface="MT Extra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Zend Accelerator (ex-Zend Cache), solution commerciale de Zend Technologi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4a0466"/>
              </a:buClr>
              <a:buFont typeface="MT Extra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Alternative PHP Cache (APC) 1.1.0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4a0466"/>
              </a:buClr>
              <a:buFont typeface="MT Extra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BWare 0.10, connu aussi sous le nom de afterBURNER*Cach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4a04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Rien à voir avec Cache HTML</a:t>
            </a:r>
            <a:endParaRPr b="0" lang="en-US" sz="2000" spc="-1" strike="noStrike">
              <a:solidFill>
                <a:srgbClr val="292929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06280" y="1224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4a0466"/>
                </a:solidFill>
                <a:latin typeface="Verdana"/>
              </a:rPr>
              <a:t>Principe de fonctionnement</a:t>
            </a:r>
            <a:endParaRPr b="1" lang="en-US" sz="2800" spc="-1" strike="noStrike">
              <a:solidFill>
                <a:srgbClr val="4a0466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22480" y="1636560"/>
            <a:ext cx="750888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Verdana"/>
            </a:endParaRPr>
          </a:p>
        </p:txBody>
      </p:sp>
      <p:pic>
        <p:nvPicPr>
          <p:cNvPr id="117" name="Slide" descr=""/>
          <p:cNvPicPr/>
          <p:nvPr/>
        </p:nvPicPr>
        <p:blipFill>
          <a:blip r:embed="rId1"/>
          <a:stretch/>
        </p:blipFill>
        <p:spPr>
          <a:xfrm>
            <a:off x="203040" y="1754280"/>
            <a:ext cx="8940960" cy="4071960"/>
          </a:xfrm>
          <a:prstGeom prst="rect">
            <a:avLst/>
          </a:prstGeom>
          <a:ln w="0">
            <a:noFill/>
          </a:ln>
        </p:spPr>
      </p:pic>
      <p:grpSp>
        <p:nvGrpSpPr>
          <p:cNvPr id="118" name=""/>
          <p:cNvGrpSpPr/>
          <p:nvPr/>
        </p:nvGrpSpPr>
        <p:grpSpPr>
          <a:xfrm>
            <a:off x="5457960" y="2390760"/>
            <a:ext cx="2314080" cy="1956960"/>
            <a:chOff x="5457960" y="2390760"/>
            <a:chExt cx="2314080" cy="1956960"/>
          </a:xfrm>
        </p:grpSpPr>
        <p:sp>
          <p:nvSpPr>
            <p:cNvPr id="119" name=""/>
            <p:cNvSpPr/>
            <p:nvPr/>
          </p:nvSpPr>
          <p:spPr>
            <a:xfrm>
              <a:off x="5457960" y="2390760"/>
              <a:ext cx="2314080" cy="1956960"/>
            </a:xfrm>
            <a:prstGeom prst="wedgeEllipseCallout">
              <a:avLst>
                <a:gd name="adj1" fmla="val -43750"/>
                <a:gd name="adj2" fmla="val 70000"/>
              </a:avLst>
            </a:prstGeom>
            <a:solidFill>
              <a:srgbClr val="800080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Zend Cach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0" name="cache" descr=""/>
            <p:cNvPicPr/>
            <p:nvPr/>
          </p:nvPicPr>
          <p:blipFill>
            <a:blip r:embed="rId2"/>
            <a:stretch/>
          </p:blipFill>
          <p:spPr>
            <a:xfrm>
              <a:off x="6026040" y="2714040"/>
              <a:ext cx="1136880" cy="113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1" name=""/>
          <p:cNvSpPr/>
          <p:nvPr/>
        </p:nvSpPr>
        <p:spPr>
          <a:xfrm>
            <a:off x="4529160" y="4505400"/>
            <a:ext cx="971640" cy="771480"/>
          </a:xfrm>
          <a:custGeom>
            <a:avLst/>
            <a:gdLst>
              <a:gd name="textAreaLeft" fmla="*/ 129960 w 971640"/>
              <a:gd name="textAreaRight" fmla="*/ 841680 w 971640"/>
              <a:gd name="textAreaTop" fmla="*/ 135000 h 771480"/>
              <a:gd name="textAreaBottom" fmla="*/ 559440 h 771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006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06280" y="1224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4a0466"/>
                </a:solidFill>
                <a:latin typeface="Verdana"/>
              </a:rPr>
              <a:t>Plate-forme de tests</a:t>
            </a:r>
            <a:endParaRPr b="1" lang="en-US" sz="2800" spc="-1" strike="noStrike">
              <a:solidFill>
                <a:srgbClr val="4a0466"/>
              </a:solidFill>
              <a:latin typeface="Verdana"/>
            </a:endParaRPr>
          </a:p>
        </p:txBody>
      </p:sp>
      <p:sp>
        <p:nvSpPr>
          <p:cNvPr id="123" name=""/>
          <p:cNvSpPr/>
          <p:nvPr/>
        </p:nvSpPr>
        <p:spPr>
          <a:xfrm>
            <a:off x="1928880" y="2028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1065240" y="1635120"/>
          <a:ext cx="8078760" cy="4280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5240" y="1635120"/>
                    <a:ext cx="8078760" cy="428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"/>
          <p:cNvSpPr/>
          <p:nvPr/>
        </p:nvSpPr>
        <p:spPr>
          <a:xfrm>
            <a:off x="996840" y="5500800"/>
            <a:ext cx="402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Application PHPNuke 4.4.1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06280" y="1224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4a0466"/>
                </a:solidFill>
                <a:latin typeface="Verdana"/>
              </a:rPr>
              <a:t>Plate-forme de tests</a:t>
            </a:r>
            <a:endParaRPr b="1" lang="en-US" sz="2800" spc="-1" strike="noStrike">
              <a:solidFill>
                <a:srgbClr val="4a0466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22480" y="1636560"/>
            <a:ext cx="750888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4a04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Page d’accueil : Mise en page et affichage des dix derniers articles</a:t>
            </a:r>
            <a:endParaRPr b="0" lang="en-US" sz="2000" spc="-1" strike="noStrike">
              <a:solidFill>
                <a:srgbClr val="292929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4a04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Une recherche : Mise en page et affichage des dix premiers résultats</a:t>
            </a:r>
            <a:endParaRPr b="0" lang="en-US" sz="2000" spc="-1" strike="noStrike">
              <a:solidFill>
                <a:srgbClr val="292929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4a04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Lecture d’un article : Mise en page et affichage d’un article</a:t>
            </a:r>
            <a:endParaRPr b="0" lang="en-US" sz="2000" spc="-1" strike="noStrike">
              <a:solidFill>
                <a:srgbClr val="292929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4a04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Lecture d’un deuxième article : Mise en page et affichage d’un article</a:t>
            </a:r>
            <a:endParaRPr b="0" lang="en-US" sz="2000" spc="-1" strike="noStrike">
              <a:solidFill>
                <a:srgbClr val="292929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06280" y="1224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4a0466"/>
                </a:solidFill>
                <a:latin typeface="Verdana"/>
              </a:rPr>
              <a:t>Résultats Capacité Transactionnelle</a:t>
            </a:r>
            <a:endParaRPr b="1" lang="en-US" sz="2800" spc="-1" strike="noStrike">
              <a:solidFill>
                <a:srgbClr val="4a0466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1990800" y="160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1330200" y="1424160"/>
          <a:ext cx="7191360" cy="5068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0200" y="1424160"/>
                    <a:ext cx="7191360" cy="506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20T08:47:00Z</dcterms:created>
  <dc:creator>Franck Gonzales</dc:creator>
  <dc:description/>
  <dc:language>en-US</dc:language>
  <cp:lastModifiedBy>Armel FAUVEAU</cp:lastModifiedBy>
  <cp:lastPrinted>2001-04-05T08:58:00Z</cp:lastPrinted>
  <dcterms:modified xsi:type="dcterms:W3CDTF">2001-11-30T15:03:41Z</dcterms:modified>
  <cp:revision>449</cp:revision>
  <dc:subject>Formation Michelin</dc:subject>
  <dc:title>Aucun titre de diapositive</dc:title>
</cp:coreProperties>
</file>