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hn.gallet@wanadoo.fr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zend.com/apidoc/" TargetMode="External"/><Relationship Id="rId2" Type="http://schemas.openxmlformats.org/officeDocument/2006/relationships/hyperlink" Target="http://conf.php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5600" y="1881000"/>
            <a:ext cx="86058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PHP : tout interfa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015400" y="239760"/>
            <a:ext cx="1665000" cy="5223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39720" y="3637800"/>
            <a:ext cx="79059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ohn Gallet</a:t>
            </a:r>
            <a:br>
              <a:rPr sz="4400"/>
            </a:br>
            <a:r>
              <a:rPr b="0" lang="en-GB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john.gallet@wanadoo.f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218280" y="208080"/>
            <a:ext cx="1398600" cy="636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709720" y="5261040"/>
            <a:ext cx="39322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éristiques d'un module 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crit en C (ex C++ : AP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tarBats" charset="2"/>
              <a:buChar char="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ynamique (.so ou .d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el direct par une fonction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es : ext/mysql/php_mysql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4520" y="13968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e embarqu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utile de charger le module en mémoire, immédiatement disponible pour 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mpilation nécessaire pour év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naire « plus » g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15200" y="18900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2320" y="527040"/>
            <a:ext cx="86947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ule externe dynam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s de re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ille exécutable moin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brairie à monter en mémoire à chaque f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el explicite dans les scripts par dl( ) ou modification de php.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15200" y="16344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plesse et perform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800" y="350640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combinaison des deux approches donne la possibilité de développer rapidement et facilite le recettage avant une mise en production optimisée en perform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simpl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5440" y="2775960"/>
            <a:ext cx="95234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DE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?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toto1="CHAINE1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toto2="CHAINE2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titi=mon_module($toto1,$toto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ho "t1=$toto1 t2=$toto2 &lt;BR&gt; titi=$titi &lt;BR&gt;\n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simpl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800" y="2104560"/>
            <a:ext cx="8605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END_FUNCTION(mon_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val **arg_1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val **arg_2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 l_le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 l_string[25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set(l_string, '\0', sizeof(l_string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ZEND_NUM_ARGS() !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|| zend_get_parameters_ex(2, &amp;arg_1, &amp;arg_2) != SU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RONG_PARAM_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simpl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800" y="2836080"/>
            <a:ext cx="86058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t_to_string_ex(arg_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t_to_string_ex(arg_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_len=sprintf(l_string, "%s %s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_STRVAL_PP(arg_1),Z_STRVAL_PP(arg_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URN_STRINGL(l_string, l_len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simpl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800" y="1922760"/>
            <a:ext cx="860580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END_FUNCTION (mon_modu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end_function_entry mon_modulemod_functions[ ]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END_FE(mon_module,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NULL, NULL,NULL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end_module_entry mon_module_module_entr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Mon Module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_modulemod_func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LL, NULL, NULL, NULL, NU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_MODULE_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ser PHP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 est rare de disposer d'un outil aussi riche en fonctionnalités et interfaçages existantes ou faciles à aj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P peut très probablement s'interfacer facilement avec l'existant : « coup de jeune » à des applications « dépassées 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 candidat de passerelle pour fédérer les données éparpill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pr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aissances : API ZEND, produit à interfacer, langag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veloppement inte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tation extérieure : développement,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Pushing the limits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« peur » du logiciel libre : et le suppor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P s'intégrera-t-il aux grandes applications achetées par mon entrepris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e peut bien m'apporter PHP, les développements internes sont existant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15200" y="18900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sourc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7ff"/>
                </a:solidFill>
                <a:latin typeface="Times New Roman"/>
              </a:rPr>
              <a:t>http://saprfc.sourceforge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 (module c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7ff"/>
                </a:solidFill>
                <a:latin typeface="Times New Roman"/>
              </a:rPr>
              <a:t>http://www.en.apl.codepark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40760" y="165240"/>
            <a:ext cx="166536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sourc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60580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zend.com/apidoc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Times New Roman"/>
              </a:rPr>
              <a:t>Web Application Development with PHP (T. Ratschiller &amp; T. Gerk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Times New Roman"/>
              </a:rPr>
              <a:t>READMEs du tar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nf.php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Times New Roman"/>
              </a:rPr>
              <a:t>fr.comp.infosystemes.www.auteurs.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Times New Roman"/>
              </a:rPr>
              <a:t>fr.comp.lang.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240760" y="165240"/>
            <a:ext cx="166536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130500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s PHP : tout interfa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015400" y="239760"/>
            <a:ext cx="1665000" cy="52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9720" y="3972960"/>
            <a:ext cx="79059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18280" y="208080"/>
            <a:ext cx="13986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 moteur de PHP est mod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fonctions « classiques » de PHP sont des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iel libre : code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otre module peut être distrib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164440" y="23976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rincipaux modules de PHP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9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BD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, Sybase, MS 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, PostG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ix, dbase, od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2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nées bin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ages (gd-li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15200" y="16344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rincipaux modules de PHP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9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/XSL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P, 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2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berM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15200" y="16344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rincipaux modules de PHP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4199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3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Data Object (ADO wrapper ODBC et OLEDB, Acc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 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développ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ès direct à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t externe : 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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PRFC permet d'appeler des functions ABAP de SAP R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64440" y="16344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l C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1801440"/>
            <a:ext cx="86058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éer un document MS Word en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word=new COM("word.application") or die("Cannot start MS Word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nt "Loaded word version ($word-&gt;Version)\n"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word-&gt;visible = 1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word-&gt;Documents-&gt;Add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$word-&gt;Selection-&gt;Typetext("This is a test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15200" y="21420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chesse des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2776320"/>
            <a:ext cx="8605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P est un langage dôté d'un nombre très important  d'interfaces de tous typ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plus,  il est possible de l'interfacer avec toute application à moindres coû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15200" y="214200"/>
            <a:ext cx="1665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écanismes génér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pré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émenter les fo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40680" y="239760"/>
            <a:ext cx="1665360" cy="52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49600" y="4327560"/>
            <a:ext cx="58752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2:23:07Z</dcterms:created>
  <dc:creator> </dc:creator>
  <dc:description/>
  <dc:language>en-US</dc:language>
  <cp:lastModifiedBy>Armel FAUVEAU</cp:lastModifiedBy>
  <dcterms:modified xsi:type="dcterms:W3CDTF">2001-11-29T19:17:28Z</dcterms:modified>
  <cp:revision>2</cp:revision>
  <dc:subject/>
  <dc:title>Extensions PHP : tout interfacer</dc:title>
</cp:coreProperties>
</file>