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E3E-ED19-401A-ADA8-C2BF87F8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8001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FB2-1126-4D05-9451-13274B1C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99036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365724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9DB-94D7-498B-AC08-96AA330F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57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990360"/>
            <a:ext cx="257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990360"/>
            <a:ext cx="257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57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3657240"/>
            <a:ext cx="257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3657240"/>
            <a:ext cx="257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A5E-C3F7-4E1D-9CF6-10BF1044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CFC-4696-4943-B79B-AD80C39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7B3-6432-408D-A069-6AD26DB2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904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990360"/>
            <a:ext cx="3904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F9E-0973-4F5B-AF02-FEAB9CC9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B2D-64F1-41BC-801C-1278CD25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66880" y="156960"/>
            <a:ext cx="6477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710-C1D5-416B-9657-49DCA084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990360"/>
            <a:ext cx="3904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930-C782-4EB3-9DD2-5E892958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904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99036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365724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E02-4271-4556-823D-4FCDB34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880" y="4140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990360"/>
            <a:ext cx="3904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8001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69C-C728-4BCB-AD55-D724723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6880" y="1569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9826-B292-431C-A518-213A9B0B3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earsmall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71640" cy="476280"/>
          </a:xfrm>
          <a:prstGeom prst="rect">
            <a:avLst/>
          </a:prstGeom>
          <a:ln w="0">
            <a:noFill/>
          </a:ln>
        </p:spPr>
      </p:pic>
      <p:pic>
        <p:nvPicPr>
          <p:cNvPr id="8" name="php" descr=""/>
          <p:cNvPicPr/>
          <p:nvPr/>
        </p:nvPicPr>
        <p:blipFill>
          <a:blip r:embed="rId3"/>
          <a:stretch/>
        </p:blipFill>
        <p:spPr>
          <a:xfrm>
            <a:off x="217440" y="193680"/>
            <a:ext cx="90504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hp_120x60" descr=""/>
          <p:cNvPicPr/>
          <p:nvPr/>
        </p:nvPicPr>
        <p:blipFill>
          <a:blip r:embed="rId4"/>
          <a:stretch/>
        </p:blipFill>
        <p:spPr>
          <a:xfrm>
            <a:off x="8001000" y="628668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10" name="logo_php" descr=""/>
          <p:cNvPicPr/>
          <p:nvPr/>
        </p:nvPicPr>
        <p:blipFill>
          <a:blip r:embed="rId5"/>
          <a:stretch/>
        </p:blipFill>
        <p:spPr>
          <a:xfrm>
            <a:off x="52560" y="6299280"/>
            <a:ext cx="1666800" cy="5238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1951920" y="6543720"/>
            <a:ext cx="596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27 novembre  2001          Pascal Blachier          [www.phpfrance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arsmall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971640" cy="476280"/>
          </a:xfrm>
          <a:prstGeom prst="rect">
            <a:avLst/>
          </a:prstGeom>
          <a:ln w="0">
            <a:noFill/>
          </a:ln>
        </p:spPr>
      </p:pic>
      <p:pic>
        <p:nvPicPr>
          <p:cNvPr id="51" name="php" descr=""/>
          <p:cNvPicPr/>
          <p:nvPr/>
        </p:nvPicPr>
        <p:blipFill>
          <a:blip r:embed="rId2"/>
          <a:stretch/>
        </p:blipFill>
        <p:spPr>
          <a:xfrm>
            <a:off x="217440" y="193680"/>
            <a:ext cx="90504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hp_120x60" descr=""/>
          <p:cNvPicPr/>
          <p:nvPr/>
        </p:nvPicPr>
        <p:blipFill>
          <a:blip r:embed="rId3"/>
          <a:stretch/>
        </p:blipFill>
        <p:spPr>
          <a:xfrm>
            <a:off x="8001000" y="628668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53" name="logo_php" descr=""/>
          <p:cNvPicPr/>
          <p:nvPr/>
        </p:nvPicPr>
        <p:blipFill>
          <a:blip r:embed="rId4"/>
          <a:stretch/>
        </p:blipFill>
        <p:spPr>
          <a:xfrm>
            <a:off x="52560" y="6299280"/>
            <a:ext cx="1666800" cy="52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920" y="6543720"/>
            <a:ext cx="596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27 novembre  2001          Pascal Blachier          [www.phpfrance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066680"/>
            <a:ext cx="762012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sentation de 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actér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nctionnement ac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ckages ex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édure d'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yle de codage 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criture de codes 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jeux et perspectives d'a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5800" y="1238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P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9- Conventions 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6002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fichier par clas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 de fichier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o/Bar.ph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o/Bar.s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oo/Bar.dl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 de class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Foo_B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m de function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Foo_Bar_testfun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ant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FOO_BAR_CONST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iable global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$_FOO_BAR_global_varia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iable privé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$_variable, _functionN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0- Classe type 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9907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quire_once "PEAR.ph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 @author  Joe Schmoe &lt;joe@schmoe.c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ass My_Class extends 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 Variable privée de la clas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 @var $_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var $_s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 Documentation relative au construct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 @param string $str   une chaî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4876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1- Classe type PEAR (su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907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unction My_Class($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this-&gt;PE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this-&gt;_str = $s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 Destru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unction _My_Clas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this-&gt;_PE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2- Gestion d'err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990720"/>
            <a:ext cx="80010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d'erreur par défaut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obj-&gt;setErrorHandling(PEAR_ERROR_DI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obj-&gt;setErrorHandling(PEAR_ERROR_CALLBACK, "error_handle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obj-&gt;setErrorHandling(PEAR_ERROR_CALLBACK, array($obj, "errorHandler"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voyer une erreu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ass Foo extends 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unction blah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turn $this-&gt;raiseError("syntax error", -4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5410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3- Gestion d'erreurs (su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9907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tection d'une erreu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$connection = Net_Socket::connect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f (PEAR::isError($connection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rint "Oops: " . $connection-&gt;getMessage() . "&lt;br&gt;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4- Tâches en cours ou prév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er le site web (compléments, interface HTMLet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tallation automatisée pour UNIX e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 d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sculer complétement PEAR sur son propre module C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écriture de PEAR::DB en C (A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5- Problèmes e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76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puis son lancement, PEAR tarde à fédérer les développeu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uses possi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nque d'information ?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nformer mieux sur 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persion des ressources ?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nvaincre les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p de formalisme ?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méliorer et compléter les 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6- Persp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plus riche avec PH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ils d'installation automat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érence méthodologique pour les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se en compte d'autres projets, gestion de la 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7040" y="3975120"/>
            <a:ext cx="4913280" cy="171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96760" y="4181400"/>
            <a:ext cx="31356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1960" y="4257720"/>
            <a:ext cx="2819160" cy="12286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8320" y="4392720"/>
            <a:ext cx="1452600" cy="885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5560" y="4427640"/>
            <a:ext cx="9907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0560" y="4603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P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E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Votre code     Votr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200" y="3800520"/>
            <a:ext cx="767376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5400" y="444492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93920" y="441000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7- Pour aller plus lo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752480"/>
            <a:ext cx="8001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ar.php.net cvs.ph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pindex.net, phpheaven.net, phpinfo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pbuilder.com, php.weblog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vres, artic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éments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pli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pclasses.upperdesign.com, sourceforge.ne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75096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earsmall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97164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hp" descr=""/>
          <p:cNvPicPr/>
          <p:nvPr/>
        </p:nvPicPr>
        <p:blipFill>
          <a:blip r:embed="rId2"/>
          <a:stretch/>
        </p:blipFill>
        <p:spPr>
          <a:xfrm>
            <a:off x="217440" y="193680"/>
            <a:ext cx="90504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php_120x60" descr=""/>
          <p:cNvPicPr/>
          <p:nvPr/>
        </p:nvPicPr>
        <p:blipFill>
          <a:blip r:embed="rId3"/>
          <a:stretch/>
        </p:blipFill>
        <p:spPr>
          <a:xfrm>
            <a:off x="8001000" y="628668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logo_php" descr=""/>
          <p:cNvPicPr/>
          <p:nvPr/>
        </p:nvPicPr>
        <p:blipFill>
          <a:blip r:embed="rId4"/>
          <a:stretch/>
        </p:blipFill>
        <p:spPr>
          <a:xfrm>
            <a:off x="52560" y="6299280"/>
            <a:ext cx="1666800" cy="523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920" y="6543720"/>
            <a:ext cx="596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27 novembre  2001          Pascal Blachier          [www.phpfrance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06668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tension and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plicat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cé par Stig S. Bakken pour créer un outil similaire au CPAN de Perl et au CTAN de 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boîte à "outil logiciel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de générique nécessaire pour les applications 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1- Présentation de 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0320" y="3616200"/>
            <a:ext cx="8383680" cy="2057400"/>
            <a:chOff x="760320" y="3616200"/>
            <a:chExt cx="8383680" cy="2057400"/>
          </a:xfrm>
        </p:grpSpPr>
        <p:sp>
          <p:nvSpPr>
            <p:cNvPr id="67" name=""/>
            <p:cNvSpPr/>
            <p:nvPr/>
          </p:nvSpPr>
          <p:spPr>
            <a:xfrm>
              <a:off x="932040" y="4243320"/>
              <a:ext cx="99036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44197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PHP 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xt.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PEAR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     Votre code       Votre 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9240" y="4048200"/>
              <a:ext cx="2819520" cy="1228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3160" y="3790800"/>
              <a:ext cx="4913280" cy="171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0320" y="3616200"/>
              <a:ext cx="767412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4800" y="4208400"/>
              <a:ext cx="1452600" cy="88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1066680"/>
            <a:ext cx="762012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eaucoup de code PHP est disponible mais une grande partie n'est pas structur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dre commun pour la mise en place d'extensions autonomes en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outils pour simplifier et automatiser l'installation et la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édérer une communauté de développeurs qui travaillent dans le même 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égration optimale avec 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2- Objectifs de 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380880" y="5029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rmalisation - Collaboration - Automat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1066680"/>
            <a:ext cx="762012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nsemble de composants pour le code C et 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collection d'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infrastructure pour la distribution du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communauté de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réutilisable (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'objectif n'est pas d'être le nième système de publication web, mais une boîte à outil gén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3- Qu’est-ce que c’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066680"/>
            <a:ext cx="7620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ules CVS (/php4/pear et /p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umentation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te web avec les principes de co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sses 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stes de diffusions : pear-(general|dev|cvs)@lists.php.n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ttp://www.php.net/cvs-php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ckages au format tar.gz avec infos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4- Fonctionnement act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ttp://pear.php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1066680"/>
            <a:ext cx="76201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AR classe ancê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'err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uche d'abstraction de bases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h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umentation (PHPDoc,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ulaires et gabarits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e fich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'e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5- Packages ex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066680"/>
            <a:ext cx="853416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ules CVS : `php4/pear' et `pear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pserver:cvsread@cvs.php.net:/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t de passe '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hpf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buildconf, make in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égrer le chemin d'accès au répertoire PE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6-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90920"/>
            <a:ext cx="8915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vs -z3 -d :pserver:cvsread@cvs.php.net:/repository 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vs -z3 -d :pserver:cvsread@cvs.php.net:/repository co php4/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066680"/>
            <a:ext cx="85341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PEAR: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7- Ut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676520"/>
            <a:ext cx="7619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equire_once("DB.php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$dsn = "mysql://$user:$pass@$host/$db_nam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$db = DB::connect($ds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$sql = "select * from table_tes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$result = $db-&gt;query($sq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hile ($row = $result-&gt;fetchRow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echo "$row[0] $row[1] $row[2]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5800" y="193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8- Ecriture de code 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52388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ent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tilis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&lt;?php ?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m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s fichiers, classes, variables et fo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dent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unction fooFunction($arg1, $arg2 = '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f (condit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eturn $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3T13:47:51Z</dcterms:created>
  <dc:creator>Pascal Blachier</dc:creator>
  <dc:description/>
  <dc:language>en-US</dc:language>
  <cp:lastModifiedBy>Pascal Blachier</cp:lastModifiedBy>
  <dcterms:modified xsi:type="dcterms:W3CDTF">2001-11-26T00:01:07Z</dcterms:modified>
  <cp:revision>14</cp:revision>
  <dc:subject/>
  <dc:title>Aucun titre de diapositive</dc:title>
</cp:coreProperties>
</file>