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1066680"/>
            <a:ext cx="71629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28440" y="4012200"/>
            <a:ext cx="71629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28440" y="1066680"/>
            <a:ext cx="34952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99000" y="1066680"/>
            <a:ext cx="34952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828440" y="4012200"/>
            <a:ext cx="34952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99000" y="4012200"/>
            <a:ext cx="34952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828440" y="1066680"/>
            <a:ext cx="230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50160" y="1066680"/>
            <a:ext cx="230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72240" y="1066680"/>
            <a:ext cx="230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828440" y="4012200"/>
            <a:ext cx="230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250160" y="4012200"/>
            <a:ext cx="230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72240" y="4012200"/>
            <a:ext cx="230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828440" y="1066680"/>
            <a:ext cx="716292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28440" y="1066680"/>
            <a:ext cx="71629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440" y="1066680"/>
            <a:ext cx="34952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99000" y="1066680"/>
            <a:ext cx="34952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7400" y="151920"/>
            <a:ext cx="69343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28440" y="1066680"/>
            <a:ext cx="34952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99000" y="1066680"/>
            <a:ext cx="34952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828440" y="4012200"/>
            <a:ext cx="34952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28440" y="1066680"/>
            <a:ext cx="34952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99000" y="1066680"/>
            <a:ext cx="34952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99000" y="4012200"/>
            <a:ext cx="34952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28440" y="1066680"/>
            <a:ext cx="34952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99000" y="1066680"/>
            <a:ext cx="34952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828440" y="4012200"/>
            <a:ext cx="71629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hpheaven.net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phpindex.com/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globalis-ms.com/" TargetMode="External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badi MT Condensed Extra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066680"/>
            <a:ext cx="71629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solidFill>
            <a:srgbClr val="9ba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_Phpheav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6324480"/>
            <a:ext cx="1393920" cy="343080"/>
          </a:xfrm>
          <a:prstGeom prst="rect">
            <a:avLst/>
          </a:prstGeom>
          <a:ln w="0">
            <a:noFill/>
          </a:ln>
        </p:spPr>
      </p:pic>
      <p:pic>
        <p:nvPicPr>
          <p:cNvPr id="4" name="logo_Phpindex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2280" y="5410080"/>
            <a:ext cx="1393920" cy="354240"/>
          </a:xfrm>
          <a:prstGeom prst="rect">
            <a:avLst/>
          </a:prstGeom>
          <a:ln w="0">
            <a:noFill/>
          </a:ln>
        </p:spPr>
      </p:pic>
      <p:pic>
        <p:nvPicPr>
          <p:cNvPr id="5" name="logo_Globali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4952880"/>
            <a:ext cx="1393920" cy="354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6765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8"/>
          <a:stretch/>
        </p:blipFill>
        <p:spPr>
          <a:xfrm>
            <a:off x="152280" y="5867280"/>
            <a:ext cx="1371600" cy="33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phpheaven.net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phpindex.com/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globalis-ms.com/" TargetMode="External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7040" y="228600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Panorama de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principaux projets PHP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791320" y="4724280"/>
            <a:ext cx="3124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icolas Hoiz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nhoizey@clever-age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nhoizey@phpheaven.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logo_php" descr=""/>
          <p:cNvPicPr/>
          <p:nvPr/>
        </p:nvPicPr>
        <p:blipFill>
          <a:blip r:embed="rId1"/>
          <a:stretch/>
        </p:blipFill>
        <p:spPr>
          <a:xfrm>
            <a:off x="4191120" y="762120"/>
            <a:ext cx="2000160" cy="6285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0" y="17640"/>
            <a:ext cx="9144000" cy="6822720"/>
            <a:chOff x="0" y="17640"/>
            <a:chExt cx="9144000" cy="6822720"/>
          </a:xfrm>
        </p:grpSpPr>
        <p:sp>
          <p:nvSpPr>
            <p:cNvPr id="48" name=""/>
            <p:cNvSpPr/>
            <p:nvPr/>
          </p:nvSpPr>
          <p:spPr>
            <a:xfrm>
              <a:off x="0" y="17640"/>
              <a:ext cx="9144000" cy="68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17640"/>
              <a:ext cx="9144000" cy="360"/>
              <a:chOff x="0" y="17640"/>
              <a:chExt cx="9144000" cy="360"/>
            </a:xfrm>
          </p:grpSpPr>
          <p:sp>
            <p:nvSpPr>
              <p:cNvPr id="50" name=""/>
              <p:cNvSpPr/>
              <p:nvPr/>
            </p:nvSpPr>
            <p:spPr>
              <a:xfrm>
                <a:off x="0" y="17640"/>
                <a:ext cx="9144000" cy="360"/>
              </a:xfrm>
              <a:prstGeom prst="rect">
                <a:avLst/>
              </a:prstGeom>
              <a:solidFill>
                <a:srgbClr val="e7e9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17640"/>
                <a:ext cx="9144000" cy="360"/>
              </a:xfrm>
              <a:prstGeom prst="rect">
                <a:avLst/>
              </a:prstGeom>
              <a:solidFill>
                <a:srgbClr val="e7e9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"/>
          <p:cNvSpPr/>
          <p:nvPr/>
        </p:nvSpPr>
        <p:spPr>
          <a:xfrm>
            <a:off x="1981080" y="4724280"/>
            <a:ext cx="3810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mel Fauv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armel.fauveau@globalis-ms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webmaster@phpindex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logo_Phpheav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1520" y="5943600"/>
            <a:ext cx="1393560" cy="343080"/>
          </a:xfrm>
          <a:prstGeom prst="rect">
            <a:avLst/>
          </a:prstGeom>
          <a:ln w="0">
            <a:noFill/>
          </a:ln>
        </p:spPr>
      </p:pic>
      <p:pic>
        <p:nvPicPr>
          <p:cNvPr id="54" name="logo_Phpindex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81280" y="5943600"/>
            <a:ext cx="1393920" cy="353880"/>
          </a:xfrm>
          <a:prstGeom prst="rect">
            <a:avLst/>
          </a:prstGeom>
          <a:ln w="0">
            <a:noFill/>
          </a:ln>
        </p:spPr>
      </p:pic>
      <p:pic>
        <p:nvPicPr>
          <p:cNvPr id="55" name="logo_Globali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057400" y="5943600"/>
            <a:ext cx="1393920" cy="353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4876920"/>
            <a:ext cx="1600200" cy="1981080"/>
          </a:xfrm>
          <a:prstGeom prst="rect">
            <a:avLst/>
          </a:prstGeom>
          <a:solidFill>
            <a:srgbClr val="9ba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5867280" y="5943600"/>
            <a:ext cx="1371600" cy="3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IMP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79" name="Image2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415040" y="6305400"/>
            <a:ext cx="22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Détails d'un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IMP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82" name="Image5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7010280" cy="5257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636000" y="6305400"/>
            <a:ext cx="379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Création d'une réponse à un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W-Agora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28440" y="1066680"/>
            <a:ext cx="71629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réateur et mainteneur :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Marc Druil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ibuteurs :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aurent Aufrere, Ron Friedman, Jun Kuwamura, Alastair Foreman, Iver Odin Kvello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, 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ésentation, points f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"/>
              </a:rPr>
              <a:t>Plate-forme de communication et d'échange basée sur un moteur de gestion de forum, personnalisable, multi langue, modulaire et extensi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Utilisations possibles : forum, catalogue, annuaire, suivi de clientèle, support, petites annonces, album photo, livre d'or, actualités, 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éférences : L'Elysée (http://www.elysee.fr/), La FNAC (http://forums.fnac.net/agora/w-agora.php3), CNRS (http://www.cnrs.fr/Strategi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Version : 4.1.0 du 14 octobre 20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ite web : http://www.w-agora.net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W-Agora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87" name="Image4" descr=""/>
          <p:cNvPicPr/>
          <p:nvPr/>
        </p:nvPicPr>
        <p:blipFill>
          <a:blip r:embed="rId1"/>
          <a:stretch/>
        </p:blipFill>
        <p:spPr>
          <a:xfrm>
            <a:off x="1828800" y="2895480"/>
            <a:ext cx="5029200" cy="3772080"/>
          </a:xfrm>
          <a:prstGeom prst="rect">
            <a:avLst/>
          </a:prstGeom>
          <a:ln w="0">
            <a:noFill/>
          </a:ln>
        </p:spPr>
      </p:pic>
      <p:pic>
        <p:nvPicPr>
          <p:cNvPr id="88" name="Image5" descr=""/>
          <p:cNvPicPr/>
          <p:nvPr/>
        </p:nvPicPr>
        <p:blipFill>
          <a:blip r:embed="rId2"/>
          <a:stretch/>
        </p:blipFill>
        <p:spPr>
          <a:xfrm>
            <a:off x="4191120" y="60948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rot="10830600">
            <a:off x="7162920" y="4647960"/>
            <a:ext cx="838080" cy="914400"/>
          </a:xfrm>
          <a:custGeom>
            <a:avLst/>
            <a:gdLst>
              <a:gd name="textAreaLeft" fmla="*/ 0 w 838080"/>
              <a:gd name="textAreaRight" fmla="*/ 838440 w 8380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ba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84280" y="160020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NF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W-Agora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92" name="Image7" descr=""/>
          <p:cNvPicPr/>
          <p:nvPr/>
        </p:nvPicPr>
        <p:blipFill>
          <a:blip r:embed="rId1"/>
          <a:stretch/>
        </p:blipFill>
        <p:spPr>
          <a:xfrm>
            <a:off x="1828800" y="304812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93" name="Image6" descr=""/>
          <p:cNvPicPr/>
          <p:nvPr/>
        </p:nvPicPr>
        <p:blipFill>
          <a:blip r:embed="rId2"/>
          <a:stretch/>
        </p:blipFill>
        <p:spPr>
          <a:xfrm>
            <a:off x="4267080" y="533520"/>
            <a:ext cx="4724640" cy="3543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rot="10830600">
            <a:off x="7238520" y="4419360"/>
            <a:ext cx="838440" cy="914400"/>
          </a:xfrm>
          <a:custGeom>
            <a:avLst/>
            <a:gdLst>
              <a:gd name="textAreaLeft" fmla="*/ 0 w 838440"/>
              <a:gd name="textAreaRight" fmla="*/ 838800 w 8384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ba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79880" y="1600200"/>
            <a:ext cx="11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a FN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more.groupware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28440" y="1066680"/>
            <a:ext cx="71629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réateur :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Marc Logeman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ainteneurs :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idem + </a:t>
            </a:r>
            <a:r>
              <a:rPr b="0" lang="fr-FR" sz="1600" spc="-1" strike="noStrike">
                <a:solidFill>
                  <a:srgbClr val="0f0000"/>
                </a:solidFill>
                <a:latin typeface="Verdana"/>
              </a:rPr>
              <a:t>Michael Schlenger, Michael Delamere et Thomas Kopatz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ibuteurs : </a:t>
            </a:r>
            <a:r>
              <a:rPr b="0" lang="fr-FR" sz="1600" spc="-1" strike="noStrike">
                <a:solidFill>
                  <a:srgbClr val="0f0000"/>
                </a:solidFill>
                <a:latin typeface="Verdana"/>
              </a:rPr>
              <a:t>Atif Ghaffar, Marc Zeyen, Jonathan Ernst, Olivier Bregeras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, 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ésentation, points f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Fonctionnalités groupware : agenda, carnet d'adresses, webmail, tâches, actualités, rapports d'activité, 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00"/>
              </a:spcBef>
              <a:buClr>
                <a:srgbClr val="0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f0000"/>
                </a:solidFill>
                <a:latin typeface="Verdana"/>
              </a:rPr>
              <a:t>Gestion d'utilisateurs et group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00"/>
              </a:spcBef>
              <a:buClr>
                <a:srgbClr val="0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f0000"/>
                </a:solidFill>
                <a:latin typeface="Verdana"/>
              </a:rPr>
              <a:t>Personnalisation basée sur des feuilles de style C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Versions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Stable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: 0.4.4 du 3 octobre 200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Instable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: 0.5.3 du 16 novembre 200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ite web : http://www.moregroupware.org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more.groupware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99" name="calmonth1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046840" y="63054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more.groupware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102" name="contact1" descr=""/>
          <p:cNvPicPr/>
          <p:nvPr/>
        </p:nvPicPr>
        <p:blipFill>
          <a:blip r:embed="rId1"/>
          <a:stretch/>
        </p:blipFill>
        <p:spPr>
          <a:xfrm>
            <a:off x="1905120" y="1009800"/>
            <a:ext cx="7010280" cy="5257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66240" y="630540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Carnet d'a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phpShop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8440" y="1066680"/>
            <a:ext cx="71629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réateur et mainteneur :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Pablo Martinez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ibuteurs :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Matt Oberpriller, Jorge Pasare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ésentation, points f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Projet phpShop initial découpé en deux par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ramework technique phpShop-Co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olution e-Commerce complète phpShop-Commer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phpShop-Core permet de gérer les sessions, les templates, la personnalisation, le multi langue, l'authentification, 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phpShop-Commerce permet de gérer un site e-Commerce avec catalogue de produits, gestion de panier, validation de comman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Version : 0.9.0 du 18 août 20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ite web : http://www.phpshop.org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phpShop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107" name="screenshot01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6934320" cy="5200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49160" y="6305400"/>
            <a:ext cx="598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Page de détail d'un produit, avec possibilité d'ajout au pan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440" y="1066680"/>
            <a:ext cx="71629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Quelques chiff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s projets présent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phpMy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IM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W-Agor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more.groupw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phpSh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phpXML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phpMyCh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daCo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SPI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Questions / répon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phpShop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110" name="screenshot02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11" name="Image03" descr=""/>
          <p:cNvPicPr/>
          <p:nvPr/>
        </p:nvPicPr>
        <p:blipFill>
          <a:blip r:embed="rId2"/>
          <a:stretch/>
        </p:blipFill>
        <p:spPr>
          <a:xfrm>
            <a:off x="4267080" y="26668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 rot="10769400">
            <a:off x="3047400" y="4266720"/>
            <a:ext cx="838080" cy="9144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ba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895480" y="5943600"/>
            <a:ext cx="4907160" cy="351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562720" y="3581280"/>
            <a:ext cx="21333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5943600"/>
            <a:ext cx="51051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334120" y="3809520"/>
            <a:ext cx="121896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58080" y="6400800"/>
            <a:ext cx="569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Validation du panier et début du processus de comma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phpXMLP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28440" y="1066680"/>
            <a:ext cx="71629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réateur &amp; mainteneur :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Didier Villevalo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ibuteurs :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Laurent Lacroix, Nicolas Hoize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ésentation, points f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Implémentation de XML Protoco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Conformité XML Schema visé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Support de SOAP 1.2 et WSDL 1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Protocoles de transport extensibles : HTTP, SMTP, 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Assistant de déploiement, génération de glu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Version : 0.1.0 de novembre 20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ite web : http://www.phpapp.org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086600" y="201600"/>
            <a:ext cx="182880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phpXMLP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28440" y="1066680"/>
            <a:ext cx="71629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HP langage de scri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Intégrateur de technolog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 local, dès mainten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Java, Com, XSL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’avenir de l'Internet: Collaboration de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Spécialisés, distants et partagés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itiative phpXML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et php_xmlrpc, SOAPx4, ... ??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ormité avec le modèle abstrait du XML Protocol (W3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086600" y="201600"/>
            <a:ext cx="182880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phpXMLP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28440" y="1066680"/>
            <a:ext cx="71629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sign entièrement obj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Support des encodages, mappings XML&lt;&gt;PH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Support des bindings de transport (HTTP, 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Support des primitives de transport (RPC, …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Génération WSDL &gt; Glue serveu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ploiement aisé de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 f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Gestion complète des messages d’erreu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Implémentation du binding SMT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Génération WSDL &gt; Stub cli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Compléter le support de XML Schem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Intégration des signatures digita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opérabilité testée ave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ApacheSoa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.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086600" y="201600"/>
            <a:ext cx="182880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phpMyChat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8440" y="1066680"/>
            <a:ext cx="71629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réateur :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Nicolas Hoize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ainteneurs :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Nicolas Hoizey et Loïc Chapeau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ibuteu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Matthieu Belge, Martin Dvorak, Christian Hacker, Etienne Gagnon, plus une vingtaine d'occasionne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ésentation, points f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Système de Chat s'appuyant sur une base de données, multi langue (34 langues) et complètement paramétra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Salons publics et privés, messages privés, modération, aide en ligne, authentifi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Plus d'un millier de site l'exploit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Version : 0.14.5 du 2 juillet 20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ite web : http://www.phpheaven.net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phpMyChat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30" name=""/>
          <p:cNvSpPr/>
          <p:nvPr/>
        </p:nvSpPr>
        <p:spPr>
          <a:xfrm>
            <a:off x="3848040" y="6305400"/>
            <a:ext cx="34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Chat sur CyberBricoleur.com (BH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62520" y="10666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05040" y="1066680"/>
            <a:ext cx="174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Tutoriel multi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langues en lig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1371600"/>
            <a:ext cx="25905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71800" y="205740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34 lang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220968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93520" y="3048120"/>
            <a:ext cx="168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Sécurité et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auth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3276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38320" y="388620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Gestion de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prof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4191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77680" y="4800600"/>
            <a:ext cx="184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Choix ou cré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de salons publ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ou priv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657600" y="5105160"/>
            <a:ext cx="12952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phpMyChat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6934320" cy="5200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85640" y="6305400"/>
            <a:ext cx="484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Chat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 l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'Harmonde : http://harmonde.tinou.net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phpMyChat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6934320" cy="5200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611080" y="6305400"/>
            <a:ext cx="59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Le chat dans une fenêtre dédiée, sur http://www.big-bart.nl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daCode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828440" y="1066680"/>
            <a:ext cx="71629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réateur et mainteneur :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Fabien Pens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ibuteurs :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Denis Barbier,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Fabien Seisen,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Pascal Terjan, Sébastien Delahaye, 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ésentation, points f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"/>
              </a:rPr>
              <a:t>Moteur de publication de brèves avec gestion de commentai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"/>
              </a:rPr>
              <a:t>Modules complémentaires : tribune libre, votes, syndication RSS/RDF, possibilité de définir plusieurs thèmes, multi langu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Intègre un système de cache optionnel et paramétra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éférence historique : LinuxFR (http://linuxfr.org/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éférence : hébergeur Nexen (http://dev.nexen.net/news/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Version : 1.2.0 du 21 juillet 20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ite web : http://www.dacode.org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daCode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151" name="screenjpg" descr=""/>
          <p:cNvPicPr/>
          <p:nvPr/>
        </p:nvPicPr>
        <p:blipFill>
          <a:blip r:embed="rId1"/>
          <a:stretch/>
        </p:blipFill>
        <p:spPr>
          <a:xfrm>
            <a:off x="4114800" y="380880"/>
            <a:ext cx="4861080" cy="6324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960920" y="137160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Fil de brè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160020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83320" y="251460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ubr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276720" y="243792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52800" y="3581280"/>
            <a:ext cx="117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Moteur de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cher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352680" y="2057400"/>
            <a:ext cx="47246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62160" y="4876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Calendr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352680" y="4343040"/>
            <a:ext cx="4724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11200" y="601992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Thè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276720" y="6019560"/>
            <a:ext cx="990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440" y="1066680"/>
            <a:ext cx="71629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lusieurs milliers de projets PHP référencés dans le mon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869 sur freshmeat.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2353 sur HotScripts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2706 sur SourceForge.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mmunauté française très ac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newsgroup fr.comp.application.www.auteurs.ph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Bientôt transféré en fr.comp.lang.ph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très nombreux sites francophones à propos de PH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ncontres entre développeu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daCode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163" name="screenshot03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6934320" cy="5200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165480" y="6305400"/>
            <a:ext cx="467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Fil hiérarchique de commentaires sur un arti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daCode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6934320" cy="5200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488320" y="6248520"/>
            <a:ext cx="607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daCode exploité sur le site de Nexen, hébergeur très impliqué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dans le développement de la communauté PHP francoph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SPIP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828440" y="1066680"/>
            <a:ext cx="71629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réateur :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Antoine Pitrou, ARNO*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ainteneurs :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Antoine Pitrou, ARNO*, Fi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ibuteu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Plus d'une trentaine, via la mailing-list spip-dev@rezo.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ésentation, points f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Système de gestion de publication éditoriale (webzin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Installation automatisée et assistée, gestion de profils avancée, articles, brèves, forums, pétitions, syndication 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Mise en page totalement personnalisa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éférences : uZine 2, Le Monde diplomatique, et tant d'aut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Version : 1.2.1 de novembre 20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ite web : http://www.uzine.net/spip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SPIP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6934320" cy="5200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423600" y="6305400"/>
            <a:ext cx="42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uZine 2, à l'origine du projet, côté public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SPIP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174" name=""/>
          <p:cNvSpPr/>
          <p:nvPr/>
        </p:nvSpPr>
        <p:spPr>
          <a:xfrm>
            <a:off x="4542480" y="630540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... et côté coulis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693432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SPIP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05120" y="3886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486400" y="3886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905120" y="9144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237120" y="6400800"/>
            <a:ext cx="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SIjoli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sijolie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81520" y="6400800"/>
            <a:ext cx="142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Gastero Prod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gasteropro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5486400" y="9144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771640" y="3429000"/>
            <a:ext cx="188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Monde diplomatiqu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monde-diplomatique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57840" y="3429000"/>
            <a:ext cx="112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'Agitateur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agitateur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28440" y="3048120"/>
            <a:ext cx="716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Questions / Réponses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phpMyAdmin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8440" y="1066680"/>
            <a:ext cx="71629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réateur :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Tobias Ratschiller (CEO de Magum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ainteneurs :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Olivier Müller, Marc Delisle, Loïc Chapeau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ibuteurs :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Très nombreux, internationau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ésentation, points f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Interface web d'administration pour MySQ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"/>
              </a:rPr>
              <a:t>Gestion des droits d'accès (utilisateurs, bases, hos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"/>
              </a:rPr>
              <a:t>Création, modification, suppression de bases, de tables et d'enregistr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"/>
              </a:rPr>
              <a:t>Génération de script de création et/ou remplissage de ba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"/>
              </a:rPr>
              <a:t>Import et export de données (CSV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"/>
              </a:rPr>
              <a:t>Multi utilisateurs, serveurs et langues (20 langue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Version : 2.2.1 du 23 octobre 20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ite web : http://phpmyadmin.sourceforge.net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phpMyAdmin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65" name="screenshot01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7010280" cy="5257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722480" y="6381720"/>
            <a:ext cx="15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Page d'ac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phpMyAdmin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68" name="screenshot03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7010280" cy="5257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10840" y="6381720"/>
            <a:ext cx="46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Liste des tables d'une base, et caractéris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phpMyAdmin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71" name="screenshot04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7010280" cy="5257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03320" y="6369120"/>
            <a:ext cx="708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Manipulation d'une base : requêtes, dump, mod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IMP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440" y="1066680"/>
            <a:ext cx="71629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réateurs :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Chuck Hagenbuch et Jon Parise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ainteneurs :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idem + Ivan E. Moore II et Mike Hard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ibuteurs :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Nombreux via l'équipe du projet Hor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ésentation, points f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Webmail IMAP multi-comptes, multi langue et personnalisable basé sur le Horde Application Framewor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Arborescence d'archivage des messages, carnet d'adre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Utilisé par beaucoup de FAI et hébergeu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Versions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stable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: 2.2.7 du 10 novembre 200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instable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: 3.0 RC1 du 9 novembre 200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ite web : http://www.horde.org/imp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badi MT Condensed Extra Bold"/>
              </a:rPr>
              <a:t>IMP</a:t>
            </a:r>
            <a:endParaRPr b="0" lang="en-US" sz="40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76" name="Image1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45880" y="630540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Contenu de la boîte de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las Hoizey</cp:lastModifiedBy>
  <dcterms:modified xsi:type="dcterms:W3CDTF">2001-11-28T14:42:34Z</dcterms:modified>
  <cp:revision>329</cp:revision>
  <dc:subject/>
  <dc:title>PowerPoint Presentation</dc:title>
</cp:coreProperties>
</file>